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A78A44-4C52-4D61-AF69-CF3250DEA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F5C488-748F-42B4-8FFD-AAC16B62A350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6EF3EF-FF9A-47C3-BB18-71E06F6CF90A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dt" idx="24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9/0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E85A20-BB63-4A01-BBA2-1D55D3464FC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5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dt" idx="26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9/0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EAEF71-AE5C-4DD4-8988-B97C27D0421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5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dt" idx="28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9/0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240E8B-F789-4217-84DE-F0C93BF2DF0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5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dt" idx="30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9/0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73B1C2-6D09-4D3B-BA4E-C9DEBB6BC0E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5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A9C02C-3961-4277-B04C-CD696F422784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E51762-CB2C-4C9B-8AC8-85506B84E132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E7A9DA-B728-4D61-B046-7D00E25650E1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B8DF4A-EA24-45A0-9267-24EDBE7A0C0B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B8B14A-58C7-4622-A28B-399DDA73EE9D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80A8EA-65B4-4907-A809-5955272B993C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E45B13-527A-4C9B-A9FC-49C7A1618E33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480430-AECC-4E68-865C-E9E13A1DB64E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413E06-0581-4F97-8629-AFE71AD0567E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dt" idx="21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9/0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92E05A-4055-4C86-9EC0-CAABBC3B948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520" cy="45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7274-ACAA-4955-9776-97F34D71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9382-A5C9-4346-B9C4-76A1C64A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6553-6F0D-41D8-B88E-54D97EB0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28B4-C60E-433A-8CC9-5AE7F7FA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A4EA-13C2-408D-8F77-3200CBB5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CCCA-F404-4BDF-B6FA-7D8FFEE7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CD5A-7C1D-4390-A1F8-5996B37D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0332-475B-4464-9EA1-CE43CA5C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0868-2D0A-4BD8-A6B9-6AD4303B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4398-E0DB-4BAE-88D0-B59BCB2F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D600-B395-406D-B573-E1B6F14E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84FE-42C9-41B5-91AC-514F9354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2C76-D123-4DD9-9785-81B087C8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4F1C-87D8-45A2-9100-63E34F6E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4B99-56EA-4EDA-938D-50BF4B93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FFB8-7936-4E51-BDD3-AA27EE96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F1CC-34DB-461D-8AE8-2B030C0B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CE000-2E1F-4F0A-9991-405130FE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72C32-49D0-4683-85C7-CE8177AB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1568E-721A-4530-B187-DECE54F1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532DA-745C-43A2-90EF-1C7D4F95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AED10-D0C2-41D1-B8AD-34A6182B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5084-EC36-46E0-862E-6C7D6324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2EAB2-B1CD-4425-A6E0-898DAB04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D100-E3AE-49CD-B31D-42912FA2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33971-3DA1-44C7-9407-D636C4AA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981AB-5685-4955-8C6B-F4E3B120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0238-B499-4158-8B65-CA47F0D0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41F64-604B-4CBF-939D-D1ABBC64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EE12D-2893-47ED-899D-06626E19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4F90-10F2-4ADE-911E-42E71991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C10-75D0-4B38-BB0F-E1909D25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3E2-AF94-4ACD-8A31-12FBB1F4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C83-AA2B-4694-9816-5487F878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B86A-464E-4157-AC58-BB358417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6B31-CAD7-4311-A380-10287861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56093D-7EBC-4C18-A3A9-08E13E2B78F5}" type="slidenum">
              <a:rPr b="0" lang="it-I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E010B6-5B49-47C2-97EE-484310A2E7FD}" type="slidenum">
              <a:rPr b="0" lang="it-I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EE52CD-6734-463C-923C-B1A62FE48014}" type="slidenum">
              <a:rPr b="0" lang="it-I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in/link/Programma%20Predefinito%206%20%20estratto%20dal%20PNP%202020-2025.pdf" TargetMode="External"/><Relationship Id="rId2" Type="http://schemas.openxmlformats.org/officeDocument/2006/relationships/hyperlink" Target="file:///tmp/in/link/Programma%20Predefinito%207%20estratto%20dal%20PNP%202020-2025.pdf" TargetMode="External"/><Relationship Id="rId3" Type="http://schemas.openxmlformats.org/officeDocument/2006/relationships/hyperlink" Target="file:///tmp/in/link/Programma%20Predefinito%208%20estratto%20dal%20PNP%202020-2025.pdf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delibere.regione.sardegna.it/it/homepage.page?selectedNode=date_2021_12_28" TargetMode="External"/><Relationship Id="rId2" Type="http://schemas.openxmlformats.org/officeDocument/2006/relationships/hyperlink" Target="https://delibere.regione.sardegna.it/it/homepage.page?selectedNode=date_2021_12_28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ttangolo 1"/>
          <p:cNvSpPr/>
          <p:nvPr/>
        </p:nvSpPr>
        <p:spPr>
          <a:xfrm>
            <a:off x="0" y="783720"/>
            <a:ext cx="9143640" cy="37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it-IT" sz="2400" spc="-1" strike="noStrike">
                <a:solidFill>
                  <a:srgbClr val="00b050"/>
                </a:solidFill>
                <a:latin typeface="Calibri"/>
              </a:rPr>
              <a:t>Piano Regionale della Prevenzione 2020-20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</a:pPr>
            <a:r>
              <a:rPr b="1" lang="it-IT" sz="2400" spc="-1" strike="noStrike">
                <a:solidFill>
                  <a:srgbClr val="00b050"/>
                </a:solidFill>
                <a:latin typeface="Calibri"/>
              </a:rPr>
              <a:t>Programma Predefinito PP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PIANO MIRATO DI PREVEN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DEL RISCHIO LEGATO ALL’UTILIZZO DI ATTREZZATURE AGRICOLE NEL SETTORE DELLAGRICOLTURA E SULLA PROMOZIONE DELLA QUALITA’, DELL’APPROPIATEZZA E DELL’EFFEICACIA A DELLA SORVEGLIAZA SANITARIA PREVENTIVA E PERIODICA SVOLTA DAI MEDICI COMPET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5"/>
          <p:cNvSpPr/>
          <p:nvPr/>
        </p:nvSpPr>
        <p:spPr>
          <a:xfrm>
            <a:off x="5123520" y="4365000"/>
            <a:ext cx="4128480" cy="16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SEMINARIO DI AVV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Data 30.09.202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Luogo IGLES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magine 2" descr=""/>
          <p:cNvPicPr/>
          <p:nvPr/>
        </p:nvPicPr>
        <p:blipFill>
          <a:blip r:embed="rId1"/>
          <a:stretch/>
        </p:blipFill>
        <p:spPr>
          <a:xfrm>
            <a:off x="7652160" y="9792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32" name="CasellaDiTesto 4"/>
          <p:cNvSpPr/>
          <p:nvPr/>
        </p:nvSpPr>
        <p:spPr>
          <a:xfrm>
            <a:off x="8100360" y="141480"/>
            <a:ext cx="102528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magine 7" descr=""/>
          <p:cNvPicPr/>
          <p:nvPr/>
        </p:nvPicPr>
        <p:blipFill>
          <a:blip r:embed="rId2"/>
          <a:stretch/>
        </p:blipFill>
        <p:spPr>
          <a:xfrm>
            <a:off x="-330840" y="11160"/>
            <a:ext cx="2843280" cy="728640"/>
          </a:xfrm>
          <a:prstGeom prst="rect">
            <a:avLst/>
          </a:prstGeom>
          <a:ln w="0">
            <a:noFill/>
          </a:ln>
        </p:spPr>
      </p:pic>
      <p:pic>
        <p:nvPicPr>
          <p:cNvPr id="134" name="Immagine 8" descr=""/>
          <p:cNvPicPr/>
          <p:nvPr/>
        </p:nvPicPr>
        <p:blipFill>
          <a:blip r:embed="rId3"/>
          <a:stretch/>
        </p:blipFill>
        <p:spPr>
          <a:xfrm>
            <a:off x="3780000" y="111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35" name="CasellaDiTesto 9"/>
          <p:cNvSpPr/>
          <p:nvPr/>
        </p:nvSpPr>
        <p:spPr>
          <a:xfrm>
            <a:off x="4212000" y="73800"/>
            <a:ext cx="182304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Capofi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SPreSAL sede di Sanlur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ttangolo arrotondato 27"/>
          <p:cNvSpPr/>
          <p:nvPr/>
        </p:nvSpPr>
        <p:spPr>
          <a:xfrm>
            <a:off x="504000" y="939240"/>
            <a:ext cx="8135640" cy="6174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 Macro Obiettivi del Piano Nazionale della Prevenzione 2020-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ttangolo 7"/>
          <p:cNvSpPr/>
          <p:nvPr/>
        </p:nvSpPr>
        <p:spPr>
          <a:xfrm>
            <a:off x="504000" y="1989000"/>
            <a:ext cx="81356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450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Il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Calibri"/>
              </a:rPr>
              <a:t>Piano Nazionale della Prevenzione (PNP) 2020-2025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comprende i seguenti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Calibri"/>
              </a:rPr>
              <a:t>6 Macro Obiettiv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0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MO1 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Malattie croniche non trasmissibi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0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MO2 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Dipendenze e problemi correla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0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MO3 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Incidenti domestici e strad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ff"/>
              </a:buClr>
              <a:buFont typeface="Wingdings" charset="2"/>
              <a:buChar char=""/>
              <a:tabLst>
                <a:tab algn="l" pos="450072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Calibri"/>
              </a:rPr>
              <a:t>MO4 “Infortuni e incidenti sul lavoro, malattie professional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0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MO5 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Ambiente, clima e salu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450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MO6 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Malattie infettive prioritar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450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da declinarsi nell’ambito del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Calibri"/>
              </a:rPr>
              <a:t>Piano Regionale della Prevenzione 2020-2025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in appositi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Calibri"/>
              </a:rPr>
              <a:t>Programmi</a:t>
            </a:r>
            <a:r>
              <a:rPr b="1" lang="it-IT" sz="1800" spc="-1" strike="noStrike">
                <a:solidFill>
                  <a:srgbClr val="0070c0"/>
                </a:solidFill>
                <a:latin typeface="Arial"/>
                <a:ea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vari dei quali sono predefiniti nel PNP 2020-2025 (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Calibri"/>
              </a:rPr>
              <a:t>Programmi Predefinit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Calibri"/>
              </a:rPr>
              <a:t>PP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 flipV="1">
            <a:off x="215640" y="63288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ccia a destra 1"/>
          <p:cNvSpPr/>
          <p:nvPr/>
        </p:nvSpPr>
        <p:spPr>
          <a:xfrm>
            <a:off x="107640" y="3645000"/>
            <a:ext cx="39600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5" name="Immagine 5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76" name="CasellaDiTesto 9"/>
          <p:cNvSpPr/>
          <p:nvPr/>
        </p:nvSpPr>
        <p:spPr>
          <a:xfrm>
            <a:off x="467640" y="21600"/>
            <a:ext cx="10796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CARBONIA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ttangolo 10"/>
          <p:cNvSpPr/>
          <p:nvPr/>
        </p:nvSpPr>
        <p:spPr>
          <a:xfrm>
            <a:off x="2202480" y="446040"/>
            <a:ext cx="6758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Num" idx="14"/>
          </p:nvPr>
        </p:nvSpPr>
        <p:spPr>
          <a:xfrm>
            <a:off x="8532720" y="6597720"/>
            <a:ext cx="323640" cy="25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01AC2E-BB04-477E-A85B-AF77FDA5F7AD}" type="slidenum">
              <a:rPr b="0" lang="it-IT" sz="1000" spc="-1" strike="noStrike">
                <a:solidFill>
                  <a:srgbClr val="898989"/>
                </a:solidFill>
                <a:latin typeface="Arial"/>
              </a:rPr>
              <a:t>7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"/>
          <p:cNvSpPr/>
          <p:nvPr/>
        </p:nvSpPr>
        <p:spPr>
          <a:xfrm flipV="1">
            <a:off x="539640" y="561960"/>
            <a:ext cx="8316720" cy="45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CasellaDiTesto 1"/>
          <p:cNvSpPr/>
          <p:nvPr/>
        </p:nvSpPr>
        <p:spPr>
          <a:xfrm>
            <a:off x="168120" y="1923840"/>
            <a:ext cx="8878680" cy="55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spcAft>
                <a:spcPts val="1199"/>
              </a:spcAf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I Programmi Predefiniti relativi al M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spcAft>
                <a:spcPts val="1199"/>
              </a:spcAf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it-IT" sz="1800" spc="-1" strike="noStrike">
                <a:solidFill>
                  <a:srgbClr val="0000ff"/>
                </a:solidFill>
                <a:latin typeface="Arial"/>
              </a:rPr>
              <a:t>Infortuni e incidenti sul lavoro, malattie professionali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spcAft>
                <a:spcPts val="1199"/>
              </a:spcAf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PNP 2020-2025 (ossia  PP6,  PP7,  PP8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spcAft>
                <a:spcPts val="1199"/>
              </a:spcAf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sono  incentrati  s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299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299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 algn="ctr">
              <a:lnSpc>
                <a:spcPct val="100000"/>
              </a:lnSpc>
              <a:spcBef>
                <a:spcPts val="360"/>
              </a:spcBef>
              <a:spcAft>
                <a:spcPts val="1199"/>
              </a:spcAft>
              <a:buClr>
                <a:srgbClr val="2016e4"/>
              </a:buClr>
              <a:buFont typeface="Arial"/>
              <a:buChar char="•"/>
            </a:pPr>
            <a:r>
              <a:rPr b="1" lang="it-IT" sz="1800" spc="-1" strike="noStrike" u="sng">
                <a:solidFill>
                  <a:srgbClr val="2016e4"/>
                </a:solidFill>
                <a:uFillTx/>
                <a:latin typeface="Arial"/>
              </a:rPr>
              <a:t>PIANO MIRATO DI PREVEN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MP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0"/>
              </a:spcBef>
              <a:spcAft>
                <a:spcPts val="1199"/>
              </a:spcAf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onosciuto dal PNP 2020-2025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</a:rPr>
              <a:t>«</a:t>
            </a:r>
            <a:r>
              <a:rPr b="1" i="1" lang="it-IT" sz="1800" spc="-1" strike="noStrike" u="sng">
                <a:solidFill>
                  <a:srgbClr val="2016e4"/>
                </a:solidFill>
                <a:uFillTx/>
                <a:latin typeface="Arial"/>
              </a:rPr>
              <a:t>strumento in grado di organizzare in modo siner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0"/>
              </a:spcBef>
              <a:spcAft>
                <a:spcPts val="1199"/>
              </a:spcAft>
            </a:pPr>
            <a:r>
              <a:rPr b="1" i="1" lang="it-IT" sz="1800" spc="-1" strike="noStrike" u="sng">
                <a:solidFill>
                  <a:srgbClr val="2016e4"/>
                </a:solidFill>
                <a:uFillTx/>
                <a:latin typeface="Arial"/>
              </a:rPr>
              <a:t>le attività di assistenza e di vigilanza alle imprese</a:t>
            </a:r>
            <a:r>
              <a:rPr b="1" lang="it-IT" sz="1800" spc="-1" strike="noStrike">
                <a:solidFill>
                  <a:srgbClr val="2016e4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spcAft>
                <a:spcPts val="18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spcAft>
                <a:spcPts val="18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in giù 10"/>
          <p:cNvSpPr/>
          <p:nvPr/>
        </p:nvSpPr>
        <p:spPr>
          <a:xfrm>
            <a:off x="4356000" y="4077000"/>
            <a:ext cx="396360" cy="647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2" name="Immagine 5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83" name="CasellaDiTesto 7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ttangolo arrotondato 8"/>
          <p:cNvSpPr/>
          <p:nvPr/>
        </p:nvSpPr>
        <p:spPr>
          <a:xfrm>
            <a:off x="504000" y="939240"/>
            <a:ext cx="8135640" cy="6174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MO 4 “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Infortuni e incidenti sul lavoro, malattie professionali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ttangolo 9"/>
          <p:cNvSpPr/>
          <p:nvPr/>
        </p:nvSpPr>
        <p:spPr>
          <a:xfrm>
            <a:off x="2184120" y="353520"/>
            <a:ext cx="6686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Num" idx="15"/>
          </p:nvPr>
        </p:nvSpPr>
        <p:spPr>
          <a:xfrm>
            <a:off x="8532720" y="6597720"/>
            <a:ext cx="323640" cy="25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9F63D9-627E-4938-A0D4-CA57F3FFB8EF}" type="slidenum">
              <a:rPr b="0" lang="it-IT" sz="1000" spc="-1" strike="noStrike">
                <a:solidFill>
                  <a:srgbClr val="898989"/>
                </a:solidFill>
                <a:latin typeface="Arial"/>
              </a:rPr>
              <a:t>7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"/>
          <p:cNvSpPr/>
          <p:nvPr/>
        </p:nvSpPr>
        <p:spPr>
          <a:xfrm flipV="1">
            <a:off x="539640" y="561960"/>
            <a:ext cx="8460720" cy="45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asellaDiTesto 1"/>
          <p:cNvSpPr/>
          <p:nvPr/>
        </p:nvSpPr>
        <p:spPr>
          <a:xfrm>
            <a:off x="395640" y="673200"/>
            <a:ext cx="8460720" cy="59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299"/>
              </a:lnSpc>
              <a:spcAft>
                <a:spcPts val="1800"/>
              </a:spcAf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e stabilito nel PNP 2020-2025, nell’ambito del Piano Regionale della Prevenzione 2020-2025 devono essere realizz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299"/>
              </a:lnSpc>
              <a:spcAft>
                <a:spcPts val="1800"/>
              </a:spcAf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2016e4"/>
                </a:solidFill>
                <a:latin typeface="Arial"/>
              </a:rPr>
              <a:t>almeno 8 P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299"/>
              </a:lnSpc>
              <a:spcAft>
                <a:spcPts val="1800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6</a:t>
            </a:r>
            <a:r>
              <a:rPr b="1" lang="it-IT" sz="1800" spc="-1" strike="noStrike">
                <a:solidFill>
                  <a:srgbClr val="2016e4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ve   comprendere   almeno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iani Mirati di Prevenzione in compar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versi da edilizia e agrico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7</a:t>
            </a:r>
            <a:r>
              <a:rPr b="1" lang="it-IT" sz="1800" spc="-1" strike="noStrike">
                <a:solidFill>
                  <a:srgbClr val="2016e4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ve comprendere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iani  Mirati  di  Prevenzione, di cui 1 in Edilizia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 in Agricol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8</a:t>
            </a:r>
            <a:r>
              <a:rPr b="1" lang="it-IT" sz="1800" spc="-1" strike="noStrike">
                <a:solidFill>
                  <a:srgbClr val="2016e4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ve   comprendere  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Piani   Mirati   di   Preven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27120" indent="-274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MP del rischio cancerogeno profess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27120" indent="-2746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MP delle patologie professionali dell’apparato muscolo schele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27120" indent="-2746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MP del rischio stress correlato al lavoro (con riferimenti al comparto Sanità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ccia in giù 10"/>
          <p:cNvSpPr/>
          <p:nvPr/>
        </p:nvSpPr>
        <p:spPr>
          <a:xfrm>
            <a:off x="4398840" y="2171880"/>
            <a:ext cx="460800" cy="46476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reccia a destra 11"/>
          <p:cNvSpPr/>
          <p:nvPr/>
        </p:nvSpPr>
        <p:spPr>
          <a:xfrm>
            <a:off x="15480" y="3595680"/>
            <a:ext cx="505080" cy="28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1" name="Immagine 8" descr=""/>
          <p:cNvPicPr/>
          <p:nvPr/>
        </p:nvPicPr>
        <p:blipFill>
          <a:blip r:embed="rId4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92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ttangolo 13"/>
          <p:cNvSpPr/>
          <p:nvPr/>
        </p:nvSpPr>
        <p:spPr>
          <a:xfrm>
            <a:off x="2385000" y="376200"/>
            <a:ext cx="6758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Num" idx="16"/>
          </p:nvPr>
        </p:nvSpPr>
        <p:spPr>
          <a:xfrm>
            <a:off x="8532720" y="6597720"/>
            <a:ext cx="323640" cy="25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6E9139-8F84-4283-A188-F16789AF5A47}" type="slidenum">
              <a:rPr b="0" lang="it-IT" sz="1000" spc="-1" strike="noStrike">
                <a:solidFill>
                  <a:srgbClr val="898989"/>
                </a:solidFill>
                <a:latin typeface="Arial"/>
              </a:rPr>
              <a:t>7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"/>
          <p:cNvSpPr/>
          <p:nvPr/>
        </p:nvSpPr>
        <p:spPr>
          <a:xfrm flipV="1">
            <a:off x="539640" y="561960"/>
            <a:ext cx="8496360" cy="45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vanti o successivo 17">
            <a:hlinkClick r:id="" action="ppaction://hlinkshowjump?jump=nextslide"/>
          </p:cNvPr>
          <p:cNvSpPr/>
          <p:nvPr/>
        </p:nvSpPr>
        <p:spPr>
          <a:xfrm>
            <a:off x="8893080" y="6642000"/>
            <a:ext cx="250560" cy="215640"/>
          </a:xfrm>
          <a:prstGeom prst="actionButtonForwardNext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ttangolo 11"/>
          <p:cNvSpPr/>
          <p:nvPr/>
        </p:nvSpPr>
        <p:spPr>
          <a:xfrm>
            <a:off x="683640" y="799920"/>
            <a:ext cx="78454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spcAft>
                <a:spcPts val="601"/>
              </a:spcAf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La scelta, nell’ambito del Piano Regionale della Prevenzione 2020-2025, dei PMP per quei rischi e quei comparti che non sono già stabiliti dal PNP 2020-2025 è stata dett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dalle </a:t>
            </a:r>
            <a:r>
              <a:rPr b="1" lang="it-IT" sz="1800" spc="-1" strike="noStrike">
                <a:solidFill>
                  <a:srgbClr val="0070c0"/>
                </a:solidFill>
                <a:latin typeface="Arial"/>
                <a:ea typeface="PMingLiU"/>
              </a:rPr>
              <a:t>specificità territoriali, in ragione delle esigenze derivanti dalle evidenze epidemiologiche e dal contesto socio-occupazion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, con particolare riferimento agli eventi infortunistici e tecnopatici più frequenti e più gravi nella popolazione lavorativa sarda, nonc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da</a:t>
            </a:r>
            <a:r>
              <a:rPr b="1" lang="it-IT" sz="1800" spc="-1" strike="noStrike">
                <a:solidFill>
                  <a:srgbClr val="0070c0"/>
                </a:solidFill>
                <a:latin typeface="Arial"/>
                <a:ea typeface="PMingLiU"/>
              </a:rPr>
              <a:t> intervenuti nuovi disposti norm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ccia in giù 10"/>
          <p:cNvSpPr/>
          <p:nvPr/>
        </p:nvSpPr>
        <p:spPr>
          <a:xfrm>
            <a:off x="4354560" y="2349000"/>
            <a:ext cx="503640" cy="69696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9" name="Immagine 7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00" name="CasellaDiTesto 9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ttangolo 13"/>
          <p:cNvSpPr/>
          <p:nvPr/>
        </p:nvSpPr>
        <p:spPr>
          <a:xfrm>
            <a:off x="2435040" y="372240"/>
            <a:ext cx="6686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Num" idx="17"/>
          </p:nvPr>
        </p:nvSpPr>
        <p:spPr>
          <a:xfrm>
            <a:off x="8532720" y="6597720"/>
            <a:ext cx="323640" cy="25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E0FFC6-75D8-40EA-9497-B246181E91F1}" type="slidenum">
              <a:rPr b="0" lang="it-IT" sz="1000" spc="-1" strike="noStrike">
                <a:solidFill>
                  <a:srgbClr val="898989"/>
                </a:solidFill>
                <a:latin typeface="Arial"/>
              </a:rPr>
              <a:t>7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"/>
          <p:cNvSpPr/>
          <p:nvPr/>
        </p:nvSpPr>
        <p:spPr>
          <a:xfrm flipV="1">
            <a:off x="539640" y="561960"/>
            <a:ext cx="8496360" cy="45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vanti o successivo 17">
            <a:hlinkClick r:id="" action="ppaction://hlinkshowjump?jump=nextslide"/>
          </p:cNvPr>
          <p:cNvSpPr/>
          <p:nvPr/>
        </p:nvSpPr>
        <p:spPr>
          <a:xfrm>
            <a:off x="8893080" y="6642000"/>
            <a:ext cx="250560" cy="215640"/>
          </a:xfrm>
          <a:prstGeom prst="actionButtonForwardNext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CasellaDiTesto 12"/>
          <p:cNvSpPr/>
          <p:nvPr/>
        </p:nvSpPr>
        <p:spPr>
          <a:xfrm>
            <a:off x="584640" y="980640"/>
            <a:ext cx="8137080" cy="60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Aft>
                <a:spcPts val="201"/>
              </a:spcAf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PMingLiU"/>
              </a:rPr>
              <a:t>Sulla base dell’elaborazione ed analisi dei dati dei sistemi informativi e dei nuovi disposti normati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1"/>
              </a:spcAf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1"/>
              </a:spcAf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1"/>
              </a:spcAf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it-IT" sz="2800" spc="-1" strike="noStrike">
                <a:solidFill>
                  <a:srgbClr val="ff0000"/>
                </a:solidFill>
                <a:latin typeface="Calibri"/>
                <a:ea typeface="PMingLiU"/>
              </a:rPr>
              <a:t>si è condiv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PMingLiU"/>
              </a:rPr>
              <a:t>con rappresentanti SPreSAL, INAIL e ITL, facenti anche parte di appositi Gruppi di Lavoro costituiti dall’Assessorato della Sanit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Wingdings" charset="2"/>
              <a:buChar char=""/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PMingLiU"/>
              </a:rPr>
              <a:t>in sede di Ufficio Operativo del Comitato Regionale di Coordinamento di cui all’art. 7 del D.Lgs. 81/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  <a:ea typeface="PMingLiU"/>
              </a:rPr>
              <a:t>in sede di Comitato Regionale di Coordinamento di cui all’art. 7 del D.Lgs. 81/08, anche con le Parti Soci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1"/>
              </a:spcAft>
            </a:pPr>
            <a:r>
              <a:rPr b="1" lang="x-none" sz="2200" spc="-1" strike="noStrike">
                <a:solidFill>
                  <a:srgbClr val="2016e4"/>
                </a:solidFill>
                <a:latin typeface="Calibri"/>
                <a:ea typeface="PMingLiU"/>
              </a:rPr>
              <a:t>d</a:t>
            </a:r>
            <a:r>
              <a:rPr b="1" lang="it-IT" sz="2200" spc="-1" strike="noStrike">
                <a:solidFill>
                  <a:srgbClr val="2016e4"/>
                </a:solidFill>
                <a:latin typeface="Calibri"/>
                <a:ea typeface="PMingLiU"/>
              </a:rPr>
              <a:t>i</a:t>
            </a:r>
            <a:r>
              <a:rPr b="1" lang="x-none" sz="2200" spc="-1" strike="noStrike">
                <a:solidFill>
                  <a:srgbClr val="2016e4"/>
                </a:solidFill>
                <a:latin typeface="Calibri"/>
                <a:ea typeface="PMingLiU"/>
              </a:rPr>
              <a:t> realizzar</a:t>
            </a:r>
            <a:r>
              <a:rPr b="1" lang="it-IT" sz="2200" spc="-1" strike="noStrike">
                <a:solidFill>
                  <a:srgbClr val="2016e4"/>
                </a:solidFill>
                <a:latin typeface="Calibri"/>
                <a:ea typeface="PMingLiU"/>
              </a:rPr>
              <a:t>e</a:t>
            </a:r>
            <a:r>
              <a:rPr b="1" lang="x-none" sz="2200" spc="-1" strike="noStrike">
                <a:solidFill>
                  <a:srgbClr val="2016e4"/>
                </a:solidFill>
                <a:latin typeface="Calibri"/>
                <a:ea typeface="PMingLiU"/>
              </a:rPr>
              <a:t> </a:t>
            </a:r>
            <a:r>
              <a:rPr b="1" lang="it-IT" sz="2200" spc="-1" strike="noStrike">
                <a:solidFill>
                  <a:srgbClr val="2016e4"/>
                </a:solidFill>
                <a:latin typeface="Calibri"/>
                <a:ea typeface="PMingLiU"/>
              </a:rPr>
              <a:t>in ciascuna sede SPreSAL della regione</a:t>
            </a:r>
            <a:r>
              <a:rPr b="1" lang="x-none" sz="2200" spc="-1" strike="noStrike">
                <a:solidFill>
                  <a:srgbClr val="2016e4"/>
                </a:solidFill>
                <a:latin typeface="Calibri"/>
                <a:ea typeface="PMingLiU"/>
              </a:rPr>
              <a:t> Sardegna</a:t>
            </a:r>
            <a:r>
              <a:rPr b="1" lang="it-IT" sz="2200" spc="-1" strike="noStrike">
                <a:solidFill>
                  <a:srgbClr val="2016e4"/>
                </a:solidFill>
                <a:latin typeface="Calibri"/>
                <a:ea typeface="PMingLiU"/>
              </a:rPr>
              <a:t> i PMP riportati nella successiva tabella</a:t>
            </a: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PMingLiU"/>
              </a:rPr>
              <a:t>, con il coordinamento di una sede SPreSAL Capofila per ciascuno degli 8 P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ccia in giù 11"/>
          <p:cNvSpPr/>
          <p:nvPr/>
        </p:nvSpPr>
        <p:spPr>
          <a:xfrm>
            <a:off x="4492440" y="1989000"/>
            <a:ext cx="321840" cy="542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7" name="Immagine 6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08" name="CasellaDiTesto 8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ttangolo 9"/>
          <p:cNvSpPr/>
          <p:nvPr/>
        </p:nvSpPr>
        <p:spPr>
          <a:xfrm>
            <a:off x="2385000" y="362160"/>
            <a:ext cx="6758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Segnaposto contenuto 5"/>
          <p:cNvGraphicFramePr/>
          <p:nvPr/>
        </p:nvGraphicFramePr>
        <p:xfrm>
          <a:off x="106920" y="332640"/>
          <a:ext cx="8929440" cy="6408360"/>
        </p:xfrm>
        <a:graphic>
          <a:graphicData uri="http://schemas.openxmlformats.org/drawingml/2006/table">
            <a:tbl>
              <a:tblPr/>
              <a:tblGrid>
                <a:gridCol w="468720"/>
                <a:gridCol w="3703680"/>
                <a:gridCol w="2049840"/>
                <a:gridCol w="2706840"/>
              </a:tblGrid>
              <a:tr h="245520"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ANI MIRATI DI PREVEN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 CAPOF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PI DI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bcbcbc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280">
                <a:tc rowSpan="3"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per il rischio da esposizione ad amianto nell’ambito della rimozione delle tubazioni interrate in cemento amia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sede di Sanl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lo SPreSAL Carbonia-Sanl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relativo ai rischi di malattie professionali nel Comparto pes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sede di Olbia dello SPreSAL Zona N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per il rischio da esposizione al radon nei luoghi di lavoro sotterranei, nei luoghi di lavoro semi sotterranei o al piano terra in aree a rischio radon/aree prioritarie, negli stabilimenti termali (D.Lgs. 101/202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sede di Nu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lo SPreSAL Zona Cen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280">
                <a:tc rowSpan="2">
                  <a:txBody>
                    <a:bodyPr lIns="68400" rIns="68400" tIns="34200" bIns="342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relativo al rischio cadute dall’alto nel comparto ediliz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sede di Sassari dello SPreSAL Zona N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relativo ai rischi legati all’utilizzo di attrezzature agricole nel settore agrico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PreSAL sede di Oristano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lo SPreSAL Zona Cent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 rowSpan="3">
                  <a:txBody>
                    <a:bodyPr lIns="68400" rIns="68400" tIns="34200" bIns="342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bcbcbc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relativo al rischio Stress Lavoro-Correlato nel compar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di Cagli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relativo al rischio da sovraccarico biomeccanico - prevenzione patologie professionali muscolo-scheletriche nel comparto trasporti e logi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sede di Lanusei dello SPreSAL Zona Cen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MP del rischio cancerogeno per esposizione professionale a polveri di legno du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eSAL sede di Carbonia dello SPreSAL Carbonia-Sanl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di tutte le sedi SPre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resentanti IN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e Assessorato San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bcbcbc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bcbcb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Freccia a destra 2"/>
          <p:cNvSpPr/>
          <p:nvPr/>
        </p:nvSpPr>
        <p:spPr>
          <a:xfrm>
            <a:off x="106920" y="4149000"/>
            <a:ext cx="432360" cy="456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ttangolo 4"/>
          <p:cNvSpPr/>
          <p:nvPr/>
        </p:nvSpPr>
        <p:spPr>
          <a:xfrm>
            <a:off x="316800" y="803520"/>
            <a:ext cx="3168000" cy="912600"/>
          </a:xfrm>
          <a:prstGeom prst="rect">
            <a:avLst/>
          </a:prstGeom>
          <a:noFill/>
          <a:ln w="0">
            <a:solidFill>
              <a:srgbClr val="007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Sulla base degli obietti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e delle strategie d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Piani Mirati di Preven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5"/>
          <p:cNvSpPr/>
          <p:nvPr/>
        </p:nvSpPr>
        <p:spPr>
          <a:xfrm>
            <a:off x="4067640" y="784080"/>
            <a:ext cx="4571640" cy="912600"/>
          </a:xfrm>
          <a:prstGeom prst="rect">
            <a:avLst/>
          </a:prstGeom>
          <a:noFill/>
          <a:ln w="0">
            <a:solidFill>
              <a:srgbClr val="007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condivisi anche nel Comitato Regionale di Coordinamento di cui all’art. 7 del D.Lgs. 81/08, pure con le Parti So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ttangolo 6"/>
          <p:cNvSpPr/>
          <p:nvPr/>
        </p:nvSpPr>
        <p:spPr>
          <a:xfrm>
            <a:off x="323640" y="1943280"/>
            <a:ext cx="4176000" cy="1186920"/>
          </a:xfrm>
          <a:prstGeom prst="rect">
            <a:avLst/>
          </a:prstGeom>
          <a:noFill/>
          <a:ln w="0">
            <a:solidFill>
              <a:srgbClr val="007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sono state predispo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le pianific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ttangolo 7"/>
          <p:cNvSpPr/>
          <p:nvPr/>
        </p:nvSpPr>
        <p:spPr>
          <a:xfrm>
            <a:off x="4716000" y="1937160"/>
            <a:ext cx="3923640" cy="1186920"/>
          </a:xfrm>
          <a:prstGeom prst="rect">
            <a:avLst/>
          </a:prstGeom>
          <a:noFill/>
          <a:ln w="0">
            <a:solidFill>
              <a:srgbClr val="007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 parte degli appositi Gruppi di Lavoro comprendenti referenti dell’Assessorato Sanità, degli SPreSAL, dell’INAIL e degli I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ttangolo 8"/>
          <p:cNvSpPr/>
          <p:nvPr/>
        </p:nvSpPr>
        <p:spPr>
          <a:xfrm>
            <a:off x="971640" y="3320280"/>
            <a:ext cx="3528000" cy="1461240"/>
          </a:xfrm>
          <a:prstGeom prst="rect">
            <a:avLst/>
          </a:prstGeom>
          <a:noFill/>
          <a:ln w="0">
            <a:solidFill>
              <a:srgbClr val="007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dei Programmi Predefin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PP6, PP7 e PP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con i relativi 8 Piani Mirati di Prevenzione (P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ttangolo 9"/>
          <p:cNvSpPr/>
          <p:nvPr/>
        </p:nvSpPr>
        <p:spPr>
          <a:xfrm>
            <a:off x="4680360" y="3874320"/>
            <a:ext cx="3923640" cy="912600"/>
          </a:xfrm>
          <a:prstGeom prst="rect">
            <a:avLst/>
          </a:prstGeom>
          <a:noFill/>
          <a:ln w="0">
            <a:solidFill>
              <a:srgbClr val="007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Macro Obiettivo 4 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nfortuni e incidenti sul lavoro, malattie profession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ttangolo 10"/>
          <p:cNvSpPr/>
          <p:nvPr/>
        </p:nvSpPr>
        <p:spPr>
          <a:xfrm>
            <a:off x="251640" y="5157360"/>
            <a:ext cx="8280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Inse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2016e4"/>
                </a:solidFill>
                <a:latin typeface="Arial"/>
                <a:ea typeface="PMingLiU"/>
              </a:rPr>
              <a:t>nel Piano Regionale della Prevenzione 2020-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PMingLiU"/>
              </a:rPr>
              <a:t>adottato con Deliberazione della Giunta Regionale n. 50/46 del 28.12.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bblicata sul sito istituzionale reg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ccia in giù 11"/>
          <p:cNvSpPr/>
          <p:nvPr/>
        </p:nvSpPr>
        <p:spPr>
          <a:xfrm>
            <a:off x="323640" y="3213000"/>
            <a:ext cx="321840" cy="194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ttangolo 12"/>
          <p:cNvSpPr/>
          <p:nvPr/>
        </p:nvSpPr>
        <p:spPr>
          <a:xfrm>
            <a:off x="266040" y="6331320"/>
            <a:ext cx="8568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https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://delibere.regione.sardegna.it/it/homepage.page?selectedNode=date_2021_12_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 flipV="1">
            <a:off x="266040" y="549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Immagine 15" descr=""/>
          <p:cNvPicPr/>
          <p:nvPr/>
        </p:nvPicPr>
        <p:blipFill>
          <a:blip r:embed="rId3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23" name="CasellaDiTesto 16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ttangolo 17"/>
          <p:cNvSpPr/>
          <p:nvPr/>
        </p:nvSpPr>
        <p:spPr>
          <a:xfrm>
            <a:off x="2244960" y="372600"/>
            <a:ext cx="6758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ttangolo arrotondato 25"/>
          <p:cNvSpPr/>
          <p:nvPr/>
        </p:nvSpPr>
        <p:spPr>
          <a:xfrm>
            <a:off x="3056400" y="6145200"/>
            <a:ext cx="36720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it-IT" sz="1800" spc="-1" strike="noStrike">
                <a:solidFill>
                  <a:schemeClr val="dk1"/>
                </a:solidFill>
                <a:latin typeface="Arial"/>
              </a:rPr>
              <a:t>PIANO MIRATO DI PREVEN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ttangolo arrotondato 1"/>
          <p:cNvSpPr/>
          <p:nvPr/>
        </p:nvSpPr>
        <p:spPr>
          <a:xfrm>
            <a:off x="2908800" y="2061000"/>
            <a:ext cx="396720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chemeClr val="dk1"/>
                </a:solidFill>
                <a:latin typeface="Calibri"/>
              </a:rPr>
              <a:t>ASSIST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100" spc="-1" strike="noStrike">
                <a:solidFill>
                  <a:schemeClr val="dk1"/>
                </a:solidFill>
                <a:latin typeface="Calibri"/>
              </a:rPr>
              <a:t>(</a:t>
            </a:r>
            <a:r>
              <a:rPr b="0" lang="it-IT" sz="1100" spc="-1" strike="noStrike">
                <a:solidFill>
                  <a:schemeClr val="dk1"/>
                </a:solidFill>
                <a:latin typeface="Calibri"/>
              </a:rPr>
              <a:t>progettazione, seminario di avvio, informazione e formazion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roce 2"/>
          <p:cNvSpPr/>
          <p:nvPr/>
        </p:nvSpPr>
        <p:spPr>
          <a:xfrm>
            <a:off x="4674240" y="4504320"/>
            <a:ext cx="436680" cy="436680"/>
          </a:xfrm>
          <a:prstGeom prst="mathPlus">
            <a:avLst>
              <a:gd name="adj1" fmla="val 2352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Rettangolo arrotondato 13"/>
          <p:cNvSpPr/>
          <p:nvPr/>
        </p:nvSpPr>
        <p:spPr>
          <a:xfrm>
            <a:off x="2908800" y="5013000"/>
            <a:ext cx="396720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chemeClr val="dk1"/>
                </a:solidFill>
                <a:latin typeface="Calibri"/>
              </a:rPr>
              <a:t>VALUTAZIONE EFFI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ttangolo arrotondato 18"/>
          <p:cNvSpPr/>
          <p:nvPr/>
        </p:nvSpPr>
        <p:spPr>
          <a:xfrm>
            <a:off x="2908800" y="3530520"/>
            <a:ext cx="396720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chemeClr val="dk1"/>
                </a:solidFill>
                <a:latin typeface="Calibri"/>
              </a:rPr>
              <a:t>VIGIL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roce 20"/>
          <p:cNvSpPr/>
          <p:nvPr/>
        </p:nvSpPr>
        <p:spPr>
          <a:xfrm>
            <a:off x="4674240" y="3006360"/>
            <a:ext cx="436680" cy="436680"/>
          </a:xfrm>
          <a:prstGeom prst="mathPlus">
            <a:avLst>
              <a:gd name="adj1" fmla="val 2352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31" name="Connettore 1 12"/>
          <p:cNvCxnSpPr/>
          <p:nvPr/>
        </p:nvCxnSpPr>
        <p:spPr>
          <a:xfrm>
            <a:off x="2067840" y="6021000"/>
            <a:ext cx="5024520" cy="360"/>
          </a:xfrm>
          <a:prstGeom prst="straightConnector1">
            <a:avLst/>
          </a:prstGeom>
          <a:ln w="38100">
            <a:solidFill>
              <a:srgbClr val="4a7ebb"/>
            </a:solidFill>
            <a:round/>
          </a:ln>
        </p:spPr>
      </p:cxnSp>
      <p:sp>
        <p:nvSpPr>
          <p:cNvPr id="232" name="Rettangolo 14"/>
          <p:cNvSpPr/>
          <p:nvPr/>
        </p:nvSpPr>
        <p:spPr>
          <a:xfrm>
            <a:off x="2072160" y="2286720"/>
            <a:ext cx="798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ttangolo 24"/>
          <p:cNvSpPr/>
          <p:nvPr/>
        </p:nvSpPr>
        <p:spPr>
          <a:xfrm>
            <a:off x="2072160" y="3777840"/>
            <a:ext cx="798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ttangolo 27"/>
          <p:cNvSpPr/>
          <p:nvPr/>
        </p:nvSpPr>
        <p:spPr>
          <a:xfrm>
            <a:off x="2072160" y="5260680"/>
            <a:ext cx="798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ccia in giù 15"/>
          <p:cNvSpPr/>
          <p:nvPr/>
        </p:nvSpPr>
        <p:spPr>
          <a:xfrm>
            <a:off x="1667160" y="2032560"/>
            <a:ext cx="367560" cy="3960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5e9eff"/>
              </a:gs>
              <a:gs pos="100000">
                <a:srgbClr val="85c2ff"/>
              </a:gs>
            </a:gsLst>
            <a:lin ang="5400000"/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Rettangolo arrotondato 21"/>
          <p:cNvSpPr/>
          <p:nvPr/>
        </p:nvSpPr>
        <p:spPr>
          <a:xfrm>
            <a:off x="742680" y="942840"/>
            <a:ext cx="752436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percorso dei Piani Mirati di Preve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 flipV="1">
            <a:off x="223560" y="603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ttangolo arrotondato 17"/>
          <p:cNvSpPr/>
          <p:nvPr/>
        </p:nvSpPr>
        <p:spPr>
          <a:xfrm>
            <a:off x="755640" y="980640"/>
            <a:ext cx="752436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percorso dei Piani Mirati di Preve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Immagine 22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40" name="CasellaDiTesto 26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ttangolo 28"/>
          <p:cNvSpPr/>
          <p:nvPr/>
        </p:nvSpPr>
        <p:spPr>
          <a:xfrm>
            <a:off x="2364480" y="396360"/>
            <a:ext cx="67658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Come dicevamo i PMP si sviluppano in tre macrofasi…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26880" indent="-326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Assistenza:  fase 1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prima fase (assistenza) riguarda l’analisi e progettazione del Piano Mirato, sviluppata a livello territoriale con la formazione di un gruppo di lavoro composto da ASL e Parti sociali (es. Associazioni di categoria, organizzazioni sindacali, Ordini, ecc.).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E’ uno dei momenti cardine del PMP, in cui viene predisposta la scheda di autovalutazione e tutta la documentazione di supporto da trasmettere alle aziende coinvolt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. Comprende un momento di presentazione alle aziende, attraverso uno o più seminari.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ttangolo arrotondato 8"/>
          <p:cNvSpPr/>
          <p:nvPr/>
        </p:nvSpPr>
        <p:spPr>
          <a:xfrm>
            <a:off x="520920" y="2199960"/>
            <a:ext cx="8342280" cy="4469040"/>
          </a:xfrm>
          <a:prstGeom prst="roundRect">
            <a:avLst>
              <a:gd name="adj" fmla="val 3539"/>
            </a:avLst>
          </a:prstGeom>
          <a:solidFill>
            <a:schemeClr val="bg2"/>
          </a:solidFill>
          <a:ln>
            <a:solidFill>
              <a:srgbClr val="0070c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Rettangolo 21"/>
          <p:cNvSpPr/>
          <p:nvPr/>
        </p:nvSpPr>
        <p:spPr>
          <a:xfrm>
            <a:off x="605520" y="2512800"/>
            <a:ext cx="811332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azione di dettaglio del PMP nell’ambito di un apposito Gruppo di Lavor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comprend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finizione dei criteri di ricerca/selezione delle impres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a coinvolgere nel P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fini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e modalità di coinvolgimento delle impres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nel P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same di  buone prassi/buone pratich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già applicate in ambito nazionale per il comparto/rischio di interesse, o stesura di buone pratiche,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 redazione del relativo Doc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edisposizione di una scheda di autovalutazione aziendal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a somministrare alle imprese, o adattamento alla realtà locale di schede già disponi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ndividuazione degli indicatori per la valutazione dell’efficacia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l P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ttangolo 1"/>
          <p:cNvSpPr/>
          <p:nvPr/>
        </p:nvSpPr>
        <p:spPr>
          <a:xfrm>
            <a:off x="51480" y="3346920"/>
            <a:ext cx="553680" cy="22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PROGET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vanti o successivo 12">
            <a:hlinkClick r:id="" action="ppaction://hlinkshowjump?jump=nextslide"/>
          </p:cNvPr>
          <p:cNvSpPr/>
          <p:nvPr/>
        </p:nvSpPr>
        <p:spPr>
          <a:xfrm>
            <a:off x="8928720" y="6669360"/>
            <a:ext cx="214920" cy="188280"/>
          </a:xfrm>
          <a:prstGeom prst="actionButtonForwardNext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Rettangolo arrotondato 13"/>
          <p:cNvSpPr/>
          <p:nvPr/>
        </p:nvSpPr>
        <p:spPr>
          <a:xfrm>
            <a:off x="242640" y="1394640"/>
            <a:ext cx="864936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0070c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chemeClr val="dk1"/>
                </a:solidFill>
                <a:latin typeface="Calibri"/>
              </a:rPr>
              <a:t>FASE 1 ASSISTENZA - Progettazione</a:t>
            </a:r>
            <a:r>
              <a:rPr b="0" lang="it-IT" sz="1800" spc="-1" strike="noStrike">
                <a:solidFill>
                  <a:schemeClr val="dk1"/>
                </a:solidFill>
                <a:latin typeface="Calibri"/>
              </a:rPr>
              <a:t>: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attività svolte da settembre 2021 a settembre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 flipV="1">
            <a:off x="267840" y="63468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ttangolo arrotondato 15"/>
          <p:cNvSpPr/>
          <p:nvPr/>
        </p:nvSpPr>
        <p:spPr>
          <a:xfrm>
            <a:off x="742680" y="942840"/>
            <a:ext cx="752436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percorso dei Piani Mirati di Preve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52" name="CasellaDiTesto 11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ttangolo 16"/>
          <p:cNvSpPr/>
          <p:nvPr/>
        </p:nvSpPr>
        <p:spPr>
          <a:xfrm>
            <a:off x="2311200" y="444960"/>
            <a:ext cx="6758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760"/>
              </a:spcBef>
              <a:buNone/>
              <a:tabLst>
                <a:tab algn="l" pos="0"/>
              </a:tabLst>
            </a:pPr>
            <a:r>
              <a:rPr b="1" lang="it-IT" sz="8800" spc="-1" strike="noStrike">
                <a:solidFill>
                  <a:srgbClr val="ff0000"/>
                </a:solidFill>
                <a:latin typeface="Calibri"/>
              </a:rPr>
              <a:t>Come sarà articolata questa giornata</a:t>
            </a:r>
            <a:endParaRPr b="0" lang="it-IT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ttangolo arrotondato 8"/>
          <p:cNvSpPr/>
          <p:nvPr/>
        </p:nvSpPr>
        <p:spPr>
          <a:xfrm>
            <a:off x="718560" y="1514520"/>
            <a:ext cx="8274240" cy="2806560"/>
          </a:xfrm>
          <a:prstGeom prst="roundRect">
            <a:avLst>
              <a:gd name="adj" fmla="val 3539"/>
            </a:avLst>
          </a:prstGeom>
          <a:solidFill>
            <a:schemeClr val="bg2"/>
          </a:solidFill>
          <a:ln>
            <a:solidFill>
              <a:srgbClr val="0070c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5" name="Rettangolo 21"/>
          <p:cNvSpPr/>
          <p:nvPr/>
        </p:nvSpPr>
        <p:spPr>
          <a:xfrm>
            <a:off x="692280" y="1573560"/>
            <a:ext cx="82742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71440" indent="-271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ealizzazione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eminario di avvio</a:t>
            </a:r>
            <a:r>
              <a:rPr b="1" lang="it-IT" sz="1800" spc="-1" strike="noStrike">
                <a:solidFill>
                  <a:srgbClr val="2016e4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(anno 2022)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 cui sono state invitate le imprese selezionate - anche mediante la collaborazione con associazioni di categoria/organizzazioni sindacali/enti bilaterali/organismi paritetici - p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262080" algn="just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presentazione del PMP e delle relative finalit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262080" algn="just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condivisione degli obie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262080" algn="just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condivisione del Documento di buone prati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262080" algn="just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condivisione e la distribuzione della scheda di autovalutazione aziendale, da restituire successivamente, debitamente compilata, allo SPreSAL territorialmente compe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ttangolo 1"/>
          <p:cNvSpPr/>
          <p:nvPr/>
        </p:nvSpPr>
        <p:spPr>
          <a:xfrm>
            <a:off x="-33120" y="2271960"/>
            <a:ext cx="799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SEM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DI AVV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ttangolo 10"/>
          <p:cNvSpPr/>
          <p:nvPr/>
        </p:nvSpPr>
        <p:spPr>
          <a:xfrm>
            <a:off x="-54720" y="4549320"/>
            <a:ext cx="799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IN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E 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ttangolo arrotondato 11"/>
          <p:cNvSpPr/>
          <p:nvPr/>
        </p:nvSpPr>
        <p:spPr>
          <a:xfrm>
            <a:off x="719280" y="4419360"/>
            <a:ext cx="8273160" cy="2359440"/>
          </a:xfrm>
          <a:prstGeom prst="roundRect">
            <a:avLst>
              <a:gd name="adj" fmla="val 3539"/>
            </a:avLst>
          </a:prstGeom>
          <a:solidFill>
            <a:schemeClr val="bg2"/>
          </a:solidFill>
          <a:ln>
            <a:solidFill>
              <a:srgbClr val="0070c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Rettangolo 12"/>
          <p:cNvSpPr/>
          <p:nvPr/>
        </p:nvSpPr>
        <p:spPr>
          <a:xfrm>
            <a:off x="719280" y="4447080"/>
            <a:ext cx="827316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orm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 personale SPreSAL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 possibilmente anche</a:t>
            </a:r>
            <a:r>
              <a:rPr b="1" lang="it-IT" sz="1800" spc="-1" strike="noStrike">
                <a:solidFill>
                  <a:srgbClr val="2016e4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gli altri Organi di Vigilanza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(anno 20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nterventi di comunicazione/informazion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ull’aggiornamento delle buone pratiche e/o materiale documentale/informativo nei portali istituzionali e in quelli degli stakeholder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(dal 2022 al 20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ormazione delle figure aziendali della prevenzione delle imprese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(anno 2023)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e assistenza alle impres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(dal 2023 al 2025)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 merito, tra l’altro, ai contenuti del Documento sulle buone pratiche condiviso nel seminario di av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ttangolo arrotondato 13"/>
          <p:cNvSpPr/>
          <p:nvPr/>
        </p:nvSpPr>
        <p:spPr>
          <a:xfrm>
            <a:off x="1403640" y="1063440"/>
            <a:ext cx="6634080" cy="37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0070c0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chemeClr val="dk1"/>
                </a:solidFill>
                <a:latin typeface="Calibri"/>
              </a:rPr>
              <a:t>FASE 1 ASSISTENZA: </a:t>
            </a:r>
            <a:r>
              <a:rPr b="0" lang="it-IT" sz="1800" spc="-1" strike="noStrike">
                <a:solidFill>
                  <a:schemeClr val="dk1"/>
                </a:solidFill>
                <a:latin typeface="Calibri"/>
              </a:rPr>
              <a:t>seminario di avvio, informazione e 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 flipV="1">
            <a:off x="206640" y="52092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ttangolo arrotondato 15"/>
          <p:cNvSpPr/>
          <p:nvPr/>
        </p:nvSpPr>
        <p:spPr>
          <a:xfrm>
            <a:off x="767160" y="622800"/>
            <a:ext cx="752436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percorso dei Piani Mirati di Preve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magine 16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64" name="CasellaDiTesto 18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ttangolo 19"/>
          <p:cNvSpPr/>
          <p:nvPr/>
        </p:nvSpPr>
        <p:spPr>
          <a:xfrm>
            <a:off x="2233800" y="335520"/>
            <a:ext cx="6758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7640" y="116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se 2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7640" y="1124640"/>
            <a:ext cx="8218800" cy="500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84000"/>
          </a:bodyPr>
          <a:p>
            <a:pPr marL="311400" indent="-311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Vigilanza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seconda fase (vigilanza) comprende due distinti momenti. Il primo riguarda lo sviluppo in azienda del processo di autovalutazione con la compilazione della scheda dedicata, con l’obiettivo di stimolare le Aziende a compiere una riflessione sulla propria conformità legislativa (ma non solo) in rapporto al piano in cui è stata coinvolta. Solo successivamente si esplicherà l’attività di vigilanza da parte delle ASL, 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attivata su un campione delle aziende coinvolte nel PMP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. Monitoraggio dell’attuazione del PMP con: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same delle schede di autovalutazione aziendale ricevute dalle imprese (2023-2024)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spezione in un campione di imprese coinvolte nel PMP, a partire da quelle che non hanno restituito la scheda di autovalutazione compilata e da quelle per le quali si sono rilevate situazioni a rischio dall’esame della scheda di autovalutazione (2024-2025)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ttangolo arrotondato 10"/>
          <p:cNvSpPr/>
          <p:nvPr/>
        </p:nvSpPr>
        <p:spPr>
          <a:xfrm>
            <a:off x="249840" y="1905480"/>
            <a:ext cx="8643600" cy="2206080"/>
          </a:xfrm>
          <a:prstGeom prst="roundRect">
            <a:avLst>
              <a:gd name="adj" fmla="val 3539"/>
            </a:avLst>
          </a:prstGeom>
          <a:solidFill>
            <a:schemeClr val="bg2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Rettangolo 21"/>
          <p:cNvSpPr/>
          <p:nvPr/>
        </p:nvSpPr>
        <p:spPr>
          <a:xfrm>
            <a:off x="320760" y="1942560"/>
            <a:ext cx="8573040" cy="18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onitoraggio dell’attuazione del PMP c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667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same delle schede di autovalutazione aziendale ricevute dalle imprese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(2023-20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6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spezione in un campione di imprese coinvolte nel PMP, a partire da quelle che non hanno restituito la scheda di autovalutazione compilata e da quelle per le quali si sono rilevate situazioni a rischio dall’esame della scheda di autovalutazione </a:t>
            </a:r>
            <a:r>
              <a:rPr b="0" lang="it-IT" sz="1800" spc="-1" strike="noStrike">
                <a:solidFill>
                  <a:srgbClr val="2016e4"/>
                </a:solidFill>
                <a:latin typeface="Calibri"/>
              </a:rPr>
              <a:t>(2024-20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ttangolo arrotondato 18"/>
          <p:cNvSpPr/>
          <p:nvPr/>
        </p:nvSpPr>
        <p:spPr>
          <a:xfrm>
            <a:off x="3026160" y="1334880"/>
            <a:ext cx="3024000" cy="45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chemeClr val="dk1"/>
                </a:solidFill>
                <a:latin typeface="Calibri"/>
              </a:rPr>
              <a:t>FASE 2: VIGIL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ttangolo arrotondato 16"/>
          <p:cNvSpPr/>
          <p:nvPr/>
        </p:nvSpPr>
        <p:spPr>
          <a:xfrm>
            <a:off x="755640" y="775800"/>
            <a:ext cx="752436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percorso dei Piani Mirati di Preven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 flipV="1">
            <a:off x="136080" y="51444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Immagine 12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74" name="CasellaDiTesto 20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ttangolo 22"/>
          <p:cNvSpPr/>
          <p:nvPr/>
        </p:nvSpPr>
        <p:spPr>
          <a:xfrm>
            <a:off x="2042640" y="352440"/>
            <a:ext cx="6974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se 3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ella terza ed ultima fase (valutazione efficacia) non solo verranno resi noti i risultati complessivi del Piano Mirato di Prevenzione, ma saranno anche raccolte e diffuse buone pratiche e misure di miglioramento, con il coinvolgimento dei vari stakeholders interessati.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5680" indent="-355680" algn="just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Preved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- sulla base degli indicatori per la valutazione di efficacia definiti nella progettazione e delle informazioni reperite nella Fase 2 di vigilanza - </a:t>
            </a: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la verifica dell’efficacia del PMP attuat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con particolare riferimento a: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nalisi delle buone pratiche applicate e delle misure di miglioramento attuate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stituzione dei risultati anche con pubblicazione nei portali istituzionali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2699640" y="692640"/>
            <a:ext cx="4352400" cy="523440"/>
          </a:xfrm>
          <a:prstGeom prst="rect">
            <a:avLst/>
          </a:prstGeom>
          <a:ln w="0">
            <a:noFill/>
          </a:ln>
        </p:spPr>
      </p:pic>
      <p:sp>
        <p:nvSpPr>
          <p:cNvPr id="280" name="Rettangolo 3"/>
          <p:cNvSpPr/>
          <p:nvPr/>
        </p:nvSpPr>
        <p:spPr>
          <a:xfrm>
            <a:off x="7061040" y="770040"/>
            <a:ext cx="123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20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ttangolo arrotondato 8"/>
          <p:cNvSpPr/>
          <p:nvPr/>
        </p:nvSpPr>
        <p:spPr>
          <a:xfrm>
            <a:off x="2897640" y="836640"/>
            <a:ext cx="4842360" cy="575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GLI OBIETTIVI DEI P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 flipV="1">
            <a:off x="280800" y="54396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ttangolo 26"/>
          <p:cNvSpPr/>
          <p:nvPr/>
        </p:nvSpPr>
        <p:spPr>
          <a:xfrm>
            <a:off x="192600" y="1484640"/>
            <a:ext cx="8483760" cy="52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1" lang="it-IT" sz="1600" spc="-1" strike="noStrike">
                <a:solidFill>
                  <a:srgbClr val="0070c0"/>
                </a:solidFill>
                <a:latin typeface="Arial"/>
              </a:rPr>
              <a:t>Incrementar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la consapevolezza dei datori di lavoro sui rischi professionali e sulle conseguenze dovute al mancato rispetto delle norme di sicurez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1" lang="it-IT" sz="1600" spc="-1" strike="noStrike">
                <a:solidFill>
                  <a:srgbClr val="0070c0"/>
                </a:solidFill>
                <a:latin typeface="Arial"/>
              </a:rPr>
              <a:t>Fornire conoscenz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ul fenomeno infortunistico/tecnopatico di un dato comparto nel quadro di riferimento territori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1" lang="it-IT" sz="1600" spc="-1" strike="noStrike">
                <a:solidFill>
                  <a:srgbClr val="0070c0"/>
                </a:solidFill>
                <a:latin typeface="Arial"/>
              </a:rPr>
              <a:t>Favorire l’adozion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 parte delle imprese di soluzioni tecniche, organizzative e procedurali coerenti con la normativa vigente e con le norme di buona tecnica,  che abbiano provata efficacia nella riduzione dei rischi e nel miglioramento delle condizioni di lavoro, al fine di ridurre gli infortuni nei luoghi di lavoro – con particolare attenzione a quelli gravi e mortali - e le malattie professiona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1" lang="it-IT" sz="1600" spc="-1" strike="noStrike">
                <a:solidFill>
                  <a:srgbClr val="0070c0"/>
                </a:solidFill>
                <a:latin typeface="Arial"/>
              </a:rPr>
              <a:t>Facilitare l’acces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le imprese all’informazione e allo sviluppo di conoscenze relativamente ai rischi lavorativ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1" lang="it-IT" sz="1600" spc="-1" strike="noStrike">
                <a:solidFill>
                  <a:srgbClr val="0070c0"/>
                </a:solidFill>
                <a:latin typeface="Arial"/>
              </a:rPr>
              <a:t>Organizzar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n modo sinergico le attività di assistenza e vigilanza alle imprese, supportandole anche con la collaborazione sul territorio delle istituzioni, e garantendo trasparenza, equità e uniformità dell’azione pubbl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Come formulare correttamente un obiettivo. (Definizione dell&amp;#39;obiettivo) –  Eccellente Donna"/>
          <p:cNvPicPr/>
          <p:nvPr/>
        </p:nvPicPr>
        <p:blipFill>
          <a:blip r:embed="rId1"/>
          <a:stretch/>
        </p:blipFill>
        <p:spPr>
          <a:xfrm>
            <a:off x="467640" y="464760"/>
            <a:ext cx="2448000" cy="1223640"/>
          </a:xfrm>
          <a:prstGeom prst="rect">
            <a:avLst/>
          </a:prstGeom>
          <a:ln w="0">
            <a:noFill/>
          </a:ln>
        </p:spPr>
      </p:pic>
      <p:pic>
        <p:nvPicPr>
          <p:cNvPr id="285" name="Immagine 5" descr=""/>
          <p:cNvPicPr/>
          <p:nvPr/>
        </p:nvPicPr>
        <p:blipFill>
          <a:blip r:embed="rId2"/>
          <a:stretch/>
        </p:blipFill>
        <p:spPr>
          <a:xfrm>
            <a:off x="0" y="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86" name="CasellaDiTesto 6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ttangolo 8"/>
          <p:cNvSpPr/>
          <p:nvPr/>
        </p:nvSpPr>
        <p:spPr>
          <a:xfrm>
            <a:off x="2120760" y="371520"/>
            <a:ext cx="6758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ttangolo 7"/>
          <p:cNvSpPr/>
          <p:nvPr/>
        </p:nvSpPr>
        <p:spPr>
          <a:xfrm>
            <a:off x="2471400" y="344520"/>
            <a:ext cx="669636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 flipV="1">
            <a:off x="-34200" y="530280"/>
            <a:ext cx="9126360" cy="453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ttangolo 1"/>
          <p:cNvSpPr/>
          <p:nvPr/>
        </p:nvSpPr>
        <p:spPr>
          <a:xfrm>
            <a:off x="9720" y="558720"/>
            <a:ext cx="914364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SEMINARIO DI AV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PIANO MIRATO DI PREVENZI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it-IT" sz="1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del rischio LEGATO ALL’UTILIZZO DI ATTREZZATURE AGRICOLE NEL SETTORE DELLAGRICOLTURA E SULLA PROMOZIONE DELLA QUALITA’, DELL’APPROPIATEZZA E DELL’EFFEICACIA A DELLA SORVEGLIAZA SANITARIA PREVENTIVA E PERIODICA SVOLTA DAI MEDICI COMPETEN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endParaRPr b="0" lang="en-US" sz="15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</a:pPr>
            <a:r>
              <a:rPr b="1" lang="it-IT" sz="20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Calibri"/>
              </a:rPr>
              <a:t>Programma della gior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Tabella 2"/>
          <p:cNvGraphicFramePr/>
          <p:nvPr/>
        </p:nvGraphicFramePr>
        <p:xfrm>
          <a:off x="24120" y="1706760"/>
          <a:ext cx="9143640" cy="4620960"/>
        </p:xfrm>
        <a:graphic>
          <a:graphicData uri="http://schemas.openxmlformats.org/drawingml/2006/table">
            <a:tbl>
              <a:tblPr/>
              <a:tblGrid>
                <a:gridCol w="1403640"/>
                <a:gridCol w="5328360"/>
                <a:gridCol w="2411640"/>
              </a:tblGrid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1163520"/>
                        </a:tabLst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Argom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lato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SPreSAL sede di  Carboni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1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ccoglienza e registrazione pres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1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aluti e presentazi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15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 Piani Mirati di Prevenzione nell’ambito del Piano Nazionale della Prevenzione e del Piano Regionale della Prevenzione 2020-20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25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Gli infortuni in agricolt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3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l Piano Mirato di Prevenzione del rischio legato all’utilizzo di attrezzature agricole nel settore agricoltur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6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l Documento di buone pratiche del Piano Mirato di Prevenzione  legato all’utilizzo di attrezzature agricole nel settore agricoltur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3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 Scheda di autovalutazione aziendale del Piano Mirato di Prevenzione del rischio legato all’utilizzo di attrezzature agricole nel settore agricoltur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pazio per domande e discussione (eventualment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pic>
        <p:nvPicPr>
          <p:cNvPr id="142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43" name="Rettangolo con angoli arrotondati 3"/>
          <p:cNvSpPr/>
          <p:nvPr/>
        </p:nvSpPr>
        <p:spPr>
          <a:xfrm>
            <a:off x="24120" y="3141000"/>
            <a:ext cx="9103680" cy="57564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CasellaDiTesto 10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CARB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ccia in giù 1"/>
          <p:cNvSpPr/>
          <p:nvPr/>
        </p:nvSpPr>
        <p:spPr>
          <a:xfrm>
            <a:off x="4370040" y="1876680"/>
            <a:ext cx="465120" cy="349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Rettangolo 3"/>
          <p:cNvSpPr/>
          <p:nvPr/>
        </p:nvSpPr>
        <p:spPr>
          <a:xfrm>
            <a:off x="133560" y="3435840"/>
            <a:ext cx="875844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a il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Piano Nazionale della Preven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PNP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la sua declinazione regionale, che si realizza con l’adozione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Piano Regionale della Preven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PNP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volg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un ruolo fondamentale di governance e orientamento della preven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vorendo l’inte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 le diverse azioni previste dalla normativa vigente o dai Piani di se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ttangolo arrotondato 13"/>
          <p:cNvSpPr/>
          <p:nvPr/>
        </p:nvSpPr>
        <p:spPr>
          <a:xfrm>
            <a:off x="683640" y="1187280"/>
            <a:ext cx="7848360" cy="5202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l Piano Nazionale della Prevenzione 2020-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ttangolo 4"/>
          <p:cNvSpPr/>
          <p:nvPr/>
        </p:nvSpPr>
        <p:spPr>
          <a:xfrm>
            <a:off x="838800" y="2253600"/>
            <a:ext cx="7527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rappresenta il quadro strategico plurien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delle politiche di prevenzione e di promozione della sa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ccia in giù 14"/>
          <p:cNvSpPr/>
          <p:nvPr/>
        </p:nvSpPr>
        <p:spPr>
          <a:xfrm>
            <a:off x="4303080" y="4760640"/>
            <a:ext cx="465120" cy="59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 flipV="1">
            <a:off x="204120" y="64476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52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tangolo 11"/>
          <p:cNvSpPr/>
          <p:nvPr/>
        </p:nvSpPr>
        <p:spPr>
          <a:xfrm>
            <a:off x="2226600" y="425160"/>
            <a:ext cx="668988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in  sostanza cos’è e perché nasce il piano mirato?</a:t>
            </a:r>
            <a:endParaRPr b="0" lang="it-IT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Piani Mirati di Prevenzione nascono con l’obiettivo di migliorare le condizioni di salute e sicurezza nei luoghi di lavoro, non più solo attraverso le attività di vigilanza affidate ai soggetti preposti quali le Aziende Sanitarie Locali e l’Ispettorato Nazionale del Lavoro, ma attraverso la creazione di un rapporto sinergico tra istituzioni ed imprese finalizzato alla prevenzione del rischio. 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5640" y="332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E’ infatti ormai assodato, per assenza di studi che provano il contrario, che le azioni repressive attraverso la sola vigilanza non sono più sufficienti a ridurre morti ed infortuni sul lavoro, senza dimenticare le malattie professionali, ma è necessario un ruolo più proattivo da parte del controllore nei confronti del controllat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168720" y="4509000"/>
            <a:ext cx="3635280" cy="18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E’ un nuovo strumento di prevenzione</a:t>
            </a:r>
            <a:endParaRPr b="0" lang="it-IT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 PMP traggono origine dai Piani Nazionale di Prevenzione, ultimo il PNP 2020-25,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Calibri"/>
              </a:rPr>
              <a:t>che riconoscono nei Piani Mirati di Prevenzione (PMP) uno strumento in grado di creare una maggiore consapevolezza sui rischi presenti in azienda da parte dei soggetti del Servizio di prevenzione e protezione, ed in particolare del Datore di lavoro.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Num" idx="13"/>
          </p:nvPr>
        </p:nvSpPr>
        <p:spPr>
          <a:xfrm>
            <a:off x="8532720" y="6597720"/>
            <a:ext cx="323640" cy="25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106D1C-2EDC-4AA5-8D07-003AA27D8679}" type="slidenum">
              <a:rPr b="0" lang="it-IT" sz="1000" spc="-1" strike="noStrike">
                <a:solidFill>
                  <a:srgbClr val="898989"/>
                </a:solidFill>
                <a:latin typeface="Arial"/>
              </a:rPr>
              <a:t>7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"/>
          <p:cNvSpPr/>
          <p:nvPr/>
        </p:nvSpPr>
        <p:spPr>
          <a:xfrm flipV="1">
            <a:off x="539640" y="561960"/>
            <a:ext cx="8384760" cy="45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vanti o successivo 17">
            <a:hlinkClick r:id="" action="ppaction://hlinkshowjump?jump=nextslide"/>
          </p:cNvPr>
          <p:cNvSpPr/>
          <p:nvPr/>
        </p:nvSpPr>
        <p:spPr>
          <a:xfrm>
            <a:off x="8893080" y="6642000"/>
            <a:ext cx="250560" cy="215640"/>
          </a:xfrm>
          <a:prstGeom prst="actionButtonForwardNext">
            <a:avLst/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CasellaDiTesto 9"/>
          <p:cNvSpPr/>
          <p:nvPr/>
        </p:nvSpPr>
        <p:spPr>
          <a:xfrm>
            <a:off x="143640" y="1695600"/>
            <a:ext cx="89276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</a:pPr>
            <a:r>
              <a:rPr b="0" lang="it-IT" sz="2300" spc="-1" strike="noStrike">
                <a:solidFill>
                  <a:srgbClr val="2016e4"/>
                </a:solidFill>
                <a:latin typeface="Cambria"/>
              </a:rPr>
              <a:t>La Giunta Regionale, con Deliberazione n. 67/3 del 31 dicembre 20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</a:pPr>
            <a:r>
              <a:rPr b="0" lang="it-IT" sz="23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ccia angolare bidirezionale 2"/>
          <p:cNvSpPr/>
          <p:nvPr/>
        </p:nvSpPr>
        <p:spPr>
          <a:xfrm rot="13377000">
            <a:off x="4032360" y="3056400"/>
            <a:ext cx="1079280" cy="1063440"/>
          </a:xfrm>
          <a:prstGeom prst="leftUpArrow">
            <a:avLst>
              <a:gd name="adj1" fmla="val 25000"/>
              <a:gd name="adj2" fmla="val 25000"/>
              <a:gd name="adj3" fmla="val 25000"/>
            </a:avLst>
          </a:prstGeom>
          <a:solidFill>
            <a:srgbClr val="ffff0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CasellaDiTesto 12"/>
          <p:cNvSpPr/>
          <p:nvPr/>
        </p:nvSpPr>
        <p:spPr>
          <a:xfrm>
            <a:off x="217440" y="4613400"/>
            <a:ext cx="43272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mbria"/>
              </a:rPr>
              <a:t>ha recepito  l’Intesa Stato-Regioni n.127/CSR del 6 agosto 2020 di approvazione del PNP 2020-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asellaDiTesto 14"/>
          <p:cNvSpPr/>
          <p:nvPr/>
        </p:nvSpPr>
        <p:spPr>
          <a:xfrm>
            <a:off x="4865760" y="4613400"/>
            <a:ext cx="4059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it-IT" sz="2000" spc="-1" strike="noStrike">
                <a:solidFill>
                  <a:srgbClr val="000000"/>
                </a:solidFill>
                <a:latin typeface="Cambria"/>
              </a:rPr>
              <a:t>ha assunto l’impegno di adottare il PRP 2020-2025 in coerenza con la visione, i principi, le priorità e la struttura del PNP 2020-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Immagine 8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68" name="CasellaDiTesto 10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CARB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ttangolo 11"/>
          <p:cNvSpPr/>
          <p:nvPr/>
        </p:nvSpPr>
        <p:spPr>
          <a:xfrm>
            <a:off x="2294640" y="362160"/>
            <a:ext cx="668664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Seminario di Avvio Piano Mirato di Prevenzione del rischio </a:t>
            </a:r>
            <a:r>
              <a:rPr b="0" lang="it-IT" sz="700" spc="-1" strike="noStrike">
                <a:solidFill>
                  <a:schemeClr val="dk1"/>
                </a:solidFill>
                <a:latin typeface="Calibri"/>
              </a:rPr>
              <a:t>da esposizione ad amianto nell’ambito della rimozione delle tubazioni interrate in cemento amianto </a:t>
            </a: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[data e luogo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ttangolo 1"/>
          <p:cNvSpPr/>
          <p:nvPr/>
        </p:nvSpPr>
        <p:spPr>
          <a:xfrm>
            <a:off x="827640" y="548640"/>
            <a:ext cx="7776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e istituzioni, (REGIONE)  attraverso le Aziende sanitarie locali, possono creare delle vere e proprie sinergie con le imprese, non più solo attraverso le attività di vigilanza (art. 13 D.Lgs. 81/08) ma sviluppando azioni congiunte di vigilanza-assistenza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, mediante un modello partecipativo per la prevenzione dei rischi nei luoghi di lavor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349</TotalTime>
  <Application>LibreOffice/7.4.7.2$Linux_X86_64 LibreOffice_project/40$Build-2</Application>
  <AppVersion>15.0000</AppVersion>
  <Words>2861</Words>
  <Paragraphs>314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0:35:22Z</dcterms:created>
  <dc:creator>Paolo Desogus</dc:creator>
  <dc:description/>
  <dc:language>en-US</dc:language>
  <cp:lastModifiedBy>Ignazio Espa  </cp:lastModifiedBy>
  <dcterms:modified xsi:type="dcterms:W3CDTF">2022-09-29T10:32:24Z</dcterms:modified>
  <cp:revision>71</cp:revision>
  <dc:subject/>
  <dc:title>Presentazione standard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6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25</vt:r8>
  </property>
</Properties>
</file>