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6.png" ContentType="image/png"/>
  <Override PartName="/ppt/media/image19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32.jpeg" ContentType="image/jpeg"/>
  <Override PartName="/ppt/media/image51.png" ContentType="image/png"/>
  <Override PartName="/ppt/media/image20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5E22C-B8FE-4EE2-A2C6-DAD876A94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64C22-FB6F-4BE7-84DA-FC9C36BECEB6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CC300B-C113-4740-A16B-B73F12D0C5F3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CD25D1-0B75-4988-83CD-2204D619E4FC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09116C-B5CC-4953-85E1-BBB7A8CE0AB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52AA-7C89-4B7F-AC54-1E64BF7B047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A7E4-3CB7-43BD-8EE4-B59C420B9CA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2EB-27C3-490B-8D8E-8E271098EB8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7F45-D08D-4596-AF1D-C89992DE666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FFB-15A1-45F3-A485-39931A71576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6359-FCD8-4471-82DF-4FFB2A22BBB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CC6-B05D-4CAD-9303-7BE81D88A88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ED3-52DA-4DB1-8AFA-95E946A8F79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55E1-278C-4A34-9C82-72F91622788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35D-3D85-4D4B-B510-E5DA91B05A1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0062-80D1-4A63-9C4C-2DB51E08B68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440C-502C-4900-A55D-B57A701D4E2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B71C-B447-4234-A8FD-D46B9A5A288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C3000F-5D26-4168-A6A3-88A31942B8A9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EB6E-13E3-4272-A5AB-2E1CA29FFBA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850-C388-483F-870A-4B3028FC311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A5C-67B5-4B4F-B77F-8266A321B5D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4FF-7E67-431D-A000-B459FD1C6CF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DFB-CEEF-49C1-B3E9-6F548FF1945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D9EE-0F51-4BD5-BD17-B00123EF012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F540-8B50-4F76-83D0-F249E348DAA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4B6-E5CE-46E8-8A5C-5F2FFD25036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297-7F99-4CF2-8F23-C1DDFCC8B61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973D-A5F7-4257-A028-C98D3EA6C2B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EFF4D-D5FD-430A-A3D4-A737BFE739A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CE1-E943-4317-A633-3E1E886F5F1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26D6-60E3-4006-A994-24E55303DC6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EC8-CB82-493B-801E-3A36FFBB5C3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F43-672B-4F61-8EFC-E5AEB202A3D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6ED2-0D0F-4A89-9FCF-1098799CB4B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9540-E034-4DA8-86B3-1F7CA0D89FA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4A21-297D-4B04-B0B7-D768F6F18BF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A6FAFF-C86E-48E9-90D8-77831B4F870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5C75B5AE-8BC7-42BA-933C-784449EC51C1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BE86D126-DCCA-4170-9439-A347F54CA02D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912540-BF5D-420B-A643-224FF63D50C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6BD5760E-DFDC-4BAC-B6B6-DD443F09A090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5840" y="8687520"/>
            <a:ext cx="2971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</a:pPr>
            <a:fld id="{97A00636-31B2-444C-BFDB-48B540BD287F}" type="slidenum">
              <a:rPr b="0" lang="it-IT" sz="13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27E2A2-4331-492B-8542-F1D09F4D4A81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A0F05D-62F3-43AB-AE3A-59A6DDC0391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9E94D4-D424-45CD-A581-FCDEC765050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FAEC71-A083-451C-9A07-8580D6DC1944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3D2-CF0B-4FE5-AAA2-39D1C203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5A8-3A8A-4613-9041-108D0DF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4A3-ABD9-4E99-8633-16185DBD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D52-77BE-4904-8981-9D79141D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5086-6181-4892-81EE-D5C47EEF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5CD-B244-4C2C-8500-E0C0680A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7403-2022-492B-99D9-CA0EC6D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CC7-3C49-4FB9-ADEE-9EA693E1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1344-5404-4839-A27D-22DA2977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274B-C7B3-4BB3-8FE5-60F8AF73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989-9280-4ECB-B320-1BFF9F1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CF8-C00F-411A-B2FC-ECC3EAE8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C90E-917E-441A-8E9E-6D1F6EB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0C14-2B80-41FB-A468-7366976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55F-04C1-4406-B7C2-942A35E9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14F8-638A-4123-878D-C2060B71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562E-E603-41B5-B6CA-4F2641C6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323D-C5DA-4460-B304-282E367D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E33B-729C-416B-BF04-F87F4EA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EF2D-3018-4C13-B50E-665B5C8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6CF1-B6ED-4BFE-B93F-05758FFB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A222-D340-4C3E-9B7D-606DD2A2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E6D-6094-4FFD-81F2-573CD837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42B0-D6AB-4581-BE59-F1CE7DB2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519A-7786-4627-822C-1033961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5AF8-2BA7-4427-A874-D55B24C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046C-1276-4BAF-84CA-7F4CA2D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E498-4778-4C8E-AD8C-FBEA9E2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1E7D-C4C0-48E8-ACAB-F682EC95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CF3B-CEE3-4FED-A4BE-F7799AF5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9A5F-9E35-49AF-9F3F-DC0E65E3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6411-D66F-48DD-A456-5447006E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F66CD-300B-44A2-8317-8A539C7F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D63-6D34-4940-B3F7-4A06F697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2DB6-C6F1-421E-B73D-79181A5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2F57-B901-4933-836E-A2594300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27A0-E0E9-4F98-B087-7186389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F4A88-FA6B-4788-B2DB-71699B5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1F5A-99DF-4C33-B262-D901C2D5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BA739-AEAA-48A0-97A4-3A9A20D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30B32-63C1-4C42-99C4-D61BF66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9C670-356E-4EF4-91E9-B1BD34D3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E066-10A2-4038-A79C-A85E4F5C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2B0-F043-47B8-A30E-DB36D9F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DB3-79E9-41D0-A8D4-43B8A43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349-5C19-4732-8BCC-45029EB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D52-E1DC-45AD-A868-81CB7C6C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CFE-BA57-4F77-AC9D-2B359DA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AD24DB-BE5D-4DDB-A300-FBB6717FECEA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B860C-862F-4F98-82C6-38F323B739C6}" type="slidenum">
              <a:rPr b="0" lang="it-I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4842E-004F-43F6-8E3C-19EBAF825B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it-IT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are clic per modificare lo stile del titolo</a:t>
            </a:r>
            <a:endParaRPr b="0" lang="it-IT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are clic per modificare stili del testo dello schema</a:t>
            </a:r>
            <a:endParaRPr b="0" lang="it-IT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condo livello</a:t>
            </a: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rzo livello</a:t>
            </a:r>
            <a:endParaRPr b="0" lang="it-IT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A8A8F-CF05-43AC-9F29-0BB5488F0F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ttangolo 2"/>
          <p:cNvSpPr/>
          <p:nvPr/>
        </p:nvSpPr>
        <p:spPr>
          <a:xfrm>
            <a:off x="436320" y="783720"/>
            <a:ext cx="827100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1" lang="it-IT" sz="2400" spc="-1" strike="noStrike">
                <a:solidFill>
                  <a:srgbClr val="00b050"/>
                </a:solidFill>
                <a:latin typeface="Calibri"/>
              </a:rPr>
              <a:t>Piano Regionale della Prevenzione 2020-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Piano Mirato di Prevenzione (P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relativo legato all’utilizzo di attrezzature agr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0000ff"/>
                </a:solidFill>
                <a:latin typeface="Calibri"/>
              </a:rPr>
              <a:t>nel settore agrico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4"/>
          <p:cNvSpPr/>
          <p:nvPr/>
        </p:nvSpPr>
        <p:spPr>
          <a:xfrm>
            <a:off x="725400" y="3285000"/>
            <a:ext cx="748836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SEMINARIO DI AVV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Gli infortuni in agricol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Data – ora                                                                Lu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sellaDiTesto 6"/>
          <p:cNvSpPr/>
          <p:nvPr/>
        </p:nvSpPr>
        <p:spPr>
          <a:xfrm>
            <a:off x="8100360" y="141480"/>
            <a:ext cx="10252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magine 7" descr=""/>
          <p:cNvPicPr/>
          <p:nvPr/>
        </p:nvPicPr>
        <p:blipFill>
          <a:blip r:embed="rId1"/>
          <a:stretch/>
        </p:blipFill>
        <p:spPr>
          <a:xfrm>
            <a:off x="-330840" y="11160"/>
            <a:ext cx="2843280" cy="728640"/>
          </a:xfrm>
          <a:prstGeom prst="rect">
            <a:avLst/>
          </a:prstGeom>
          <a:ln w="0">
            <a:noFill/>
          </a:ln>
        </p:spPr>
      </p:pic>
      <p:pic>
        <p:nvPicPr>
          <p:cNvPr id="174" name="Immagine 8" descr=""/>
          <p:cNvPicPr/>
          <p:nvPr/>
        </p:nvPicPr>
        <p:blipFill>
          <a:blip r:embed="rId2"/>
          <a:stretch/>
        </p:blipFill>
        <p:spPr>
          <a:xfrm>
            <a:off x="3780000" y="111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75" name="CasellaDiTesto 10"/>
          <p:cNvSpPr/>
          <p:nvPr/>
        </p:nvSpPr>
        <p:spPr>
          <a:xfrm>
            <a:off x="4212000" y="73800"/>
            <a:ext cx="18230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Capofi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SPreSAL sede di Oristano dello SPreSAL Zona C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34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ttangolo 2"/>
          <p:cNvSpPr/>
          <p:nvPr/>
        </p:nvSpPr>
        <p:spPr>
          <a:xfrm>
            <a:off x="323640" y="1268640"/>
            <a:ext cx="84247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e difficoltà linguistiche si sovrappongono i fattori culturali legati alle conoscenze, esperienze, valori comuni diffusi in un popolo, influenzati peraltro dal contesto storico, politico e relig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minore diffusione della cultura della sicurezza del lavoro e la bassa percezione dell’esposizione al pericolo favorisce la maggiore accettazione del rischio lavorativo e la frequente mancanza di rispetto delle regole e delle procedure aziendali volte ad eliminare o ridurre al minimo il rischio. Vi è, infatti, una maggior propensione a “correre il rischio” nell’eseguire compiti in modo pericoloso, pur di apparire capaci di svolgere un comp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ttangolo arrotondato 7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908080" y="4365000"/>
            <a:ext cx="3255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ulteriore elemento da non sottovalutare è rappresentato dalle </a:t>
            </a:r>
            <a:r>
              <a:rPr b="0" lang="it-IT" sz="2200" spc="-1" strike="noStrike">
                <a:solidFill>
                  <a:srgbClr val="ff0000"/>
                </a:solidFill>
                <a:latin typeface="Calibri"/>
              </a:rPr>
              <a:t>usanze religiose, come il Ramadan, che possono esporre il lavoratore a maggiori rischi di infortunio, specialmente se le attività, come in agricoltura, si svolgono all’aperto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Nella fattispecie, il digiuno prolungato e la mancata assunzione di acqua durante le ore diurne, comporta un rapido affaticamento fisico e la disidratazione, che riducono la soglia di attenzione durante il lavor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166480" y="3645000"/>
            <a:ext cx="3867480" cy="20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3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2"/>
          <p:cNvSpPr/>
          <p:nvPr/>
        </p:nvSpPr>
        <p:spPr>
          <a:xfrm>
            <a:off x="323640" y="1552680"/>
            <a:ext cx="8424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fine, un aspetto di rilievo è la minore possibilità di intercettazione del fenomeno infortunistico, per il fatto che, non di rado, gli immigrati sono soggetti a forme di lavoro sommerso con fenomeni di caporalato o, perfino, di vere e proprie forme di schiavitù, accettate con la speranza di poter migliorare il proprio status nel lungo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relazione a quanto esposto, nel presente Piano Mirato di Prevenz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errà dedicata particolare attenzione a contrastare le disuguaglianze di salute nei lavoratori stagionali operanti in Sardegna in tale settore, con particolare riferimento a quelli strani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I lavoratori stranieri tra irregolarità e sfrut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it-IT" sz="1800" spc="-1" strike="noStrike">
                <a:solidFill>
                  <a:srgbClr val="000000"/>
                </a:solidFill>
                <a:latin typeface="Calibri"/>
              </a:rPr>
              <a:t>Spesso accusati di rubare il lavoro agli italiani, in realtà gli stranieri fanno mediamente lavori meno qualificati e meno retribuiti. Oltre a subire più frequentemente sfruttamento e condizioni lavorative degradanti, come nel caso del caporal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49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3"/>
          <p:cNvSpPr/>
          <p:nvPr/>
        </p:nvSpPr>
        <p:spPr>
          <a:xfrm>
            <a:off x="315000" y="1700640"/>
            <a:ext cx="884808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Dall’esame dei dati relativi agli infortuni mortali e gravi notificati agli SPreSAL dei Dipartimenti di Prevenzione sardi e inseriti dai medesimi nel Sistema di Sorveglianza Nazionale delle Infortuni Mortali e Gravi “Infor.Mo”, si rileva che il 22% riguarda il comparto agricol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Le lesioni maggiormente frequenti negli infortuni mortali e gravi in agricoltura so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schiacciamento (33 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ratture (32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ferite (1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mputazioni (1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Tra le modalità di accadimento degli eventi mortali e gravi in agricoltura, la casistica maggioritaria compre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variazione nella marcia di un veicolo/mezzo di trasporto (fuoriuscita dal percorso previsto, ribaltamento...) che rappresenta il 23% dei cas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organi lavoratori in movimento (18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contatto con altri oggetti, mezzi o veicoli in movimento (nella loro abituale se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300"/>
              </a:spcAft>
              <a:buClr>
                <a:srgbClr val="333333"/>
              </a:buClr>
              <a:buFont typeface="StarSymbol"/>
              <a:buChar char="-"/>
            </a:pPr>
            <a:r>
              <a:rPr b="0" lang="it-IT" sz="1600" spc="-1" strike="noStrike">
                <a:solidFill>
                  <a:srgbClr val="333333"/>
                </a:solidFill>
                <a:latin typeface="Calibri"/>
                <a:ea typeface="Arial"/>
              </a:rPr>
              <a:t>avviamento inatteso/inopportuno di veico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ttangolo arrotondato 11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ipologia de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9800" y="625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>
              <a:lnSpc>
                <a:spcPct val="100000"/>
              </a:lnSpc>
              <a:buNone/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chiacciamento (33 %);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fratture (32%);</a:t>
            </a:r>
            <a:br>
              <a:rPr sz="2700"/>
            </a:b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 ferite (14%);</a:t>
            </a:r>
            <a:br>
              <a:rPr sz="4000"/>
            </a:br>
            <a:br>
              <a:rPr sz="4000"/>
            </a:br>
            <a:r>
              <a:rPr b="0" lang="it-IT" sz="3100" spc="-1" strike="noStrike">
                <a:solidFill>
                  <a:srgbClr val="000000"/>
                </a:solidFill>
                <a:latin typeface="Calibri"/>
              </a:rPr>
              <a:t>amputazioni (10%).</a:t>
            </a:r>
            <a:br>
              <a:rPr sz="3100"/>
            </a:br>
            <a:br>
              <a:rPr sz="4000"/>
            </a:br>
            <a:endParaRPr b="0" lang="it-IT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148000" y="188640"/>
            <a:ext cx="3695400" cy="201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148000" y="2421000"/>
            <a:ext cx="3530520" cy="180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877360" y="4941000"/>
            <a:ext cx="2801160" cy="138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3636000" y="4932720"/>
            <a:ext cx="2027160" cy="13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arrotondato 13"/>
          <p:cNvSpPr/>
          <p:nvPr/>
        </p:nvSpPr>
        <p:spPr>
          <a:xfrm>
            <a:off x="753480" y="1340640"/>
            <a:ext cx="76345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61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tangolo 2"/>
          <p:cNvSpPr/>
          <p:nvPr/>
        </p:nvSpPr>
        <p:spPr>
          <a:xfrm>
            <a:off x="578160" y="2061000"/>
            <a:ext cx="7911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er quanto concerne il settore agricolo, dai dati ISTAT (Rilevazione sulle forze di lavoro) risultano, per l'anno 2019 in Sardegna, 33.000 occupati in agricol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 Censimento Agricoltura realizzato dall’ISTAT nel 2010 si rilevano un totale di 60.812 aziende agric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ll'Annuario Statistico Italiano 2019, risulta che nel 2016 - considerato il campo di osservazione UE che esclude le unità più piccole che, complessivamente, rappresentano non più del 2% della SAU e non più del 2% del totale delle unità di bestiame - risulta un numero di aziende agricole in Sardegna pari 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48.511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on una superficie complessiva di 1.463.957 ettari, di cui superficie agricola utilizzata (SAU) 1.187.624 ett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erché avvengono gli infortuni ?</a:t>
            </a: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 flipV="1">
            <a:off x="0" y="475560"/>
            <a:ext cx="9126360" cy="453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3"/>
          <p:cNvSpPr/>
          <p:nvPr/>
        </p:nvSpPr>
        <p:spPr>
          <a:xfrm>
            <a:off x="-22680" y="531720"/>
            <a:ext cx="91436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000" spc="-1" strike="noStrike">
                <a:solidFill>
                  <a:srgbClr val="376092"/>
                </a:solidFill>
                <a:latin typeface="Calibri"/>
              </a:rPr>
              <a:t>SEMINARIO DI AV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PIANO MIRATO DI PREVEN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relativo al rischio legato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376092"/>
                </a:solidFill>
                <a:latin typeface="Calibri"/>
              </a:rPr>
              <a:t>all’utilizzo di attrezzature agricole nel settore agricol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376092"/>
                </a:solidFill>
                <a:uFillTx/>
                <a:latin typeface="Calibri"/>
              </a:rPr>
              <a:t>Programma della gior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Tabella 4"/>
          <p:cNvGraphicFramePr/>
          <p:nvPr/>
        </p:nvGraphicFramePr>
        <p:xfrm>
          <a:off x="0" y="1784880"/>
          <a:ext cx="9143640" cy="4692240"/>
        </p:xfrm>
        <a:graphic>
          <a:graphicData uri="http://schemas.openxmlformats.org/drawingml/2006/table">
            <a:tbl>
              <a:tblPr/>
              <a:tblGrid>
                <a:gridCol w="1530360"/>
                <a:gridCol w="5400360"/>
                <a:gridCol w="2212920"/>
              </a:tblGrid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1163520"/>
                        </a:tabLst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omen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lat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5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SPreSAL sede di ________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coglienza e registrazione pres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aluti e pres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1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 Piani Mirati di Prevenzione nell’ambito del Piano Nazionale della Prevenzione e del Piano Regionale della Prevenzione 2020-2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25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Gli infortuni in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Piano Mirato di Prevenzione (PMP)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l Documento di buone pratich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3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La Scheda di autovalutazione aziendale del PMP del rischio legato all’utilizzo di attrezzature agricole nel settore agricoltu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alle ___ alle ___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60 minuti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it-IT" sz="15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azio per domande e discu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5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pic>
        <p:nvPicPr>
          <p:cNvPr id="179" name="Immagine 5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7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tangolo con angoli arrotondati 3"/>
          <p:cNvSpPr/>
          <p:nvPr/>
        </p:nvSpPr>
        <p:spPr>
          <a:xfrm>
            <a:off x="17280" y="3956040"/>
            <a:ext cx="9103680" cy="40860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ttangolo 9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9143640" cy="68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ttangolo arrotondato 13"/>
          <p:cNvSpPr/>
          <p:nvPr/>
        </p:nvSpPr>
        <p:spPr>
          <a:xfrm>
            <a:off x="683640" y="1187280"/>
            <a:ext cx="7848360" cy="520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827640" y="2889360"/>
            <a:ext cx="756036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fine di delineare elementi di disequità di salute, i suddetti dati infortunistici sono stati stratificati per nazionalità dei lavoratori e per fascia d’età e gen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0" y="17640"/>
            <a:ext cx="9143640" cy="68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2"/>
          <p:cNvSpPr/>
          <p:nvPr/>
        </p:nvSpPr>
        <p:spPr>
          <a:xfrm>
            <a:off x="467640" y="216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ARBONIA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magine 8" descr=""/>
          <p:cNvPicPr/>
          <p:nvPr/>
        </p:nvPicPr>
        <p:blipFill>
          <a:blip r:embed="rId2"/>
          <a:stretch/>
        </p:blipFill>
        <p:spPr>
          <a:xfrm>
            <a:off x="1040040" y="3313080"/>
            <a:ext cx="6444360" cy="287496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2"/>
          <p:cNvSpPr/>
          <p:nvPr/>
        </p:nvSpPr>
        <p:spPr>
          <a:xfrm>
            <a:off x="1526040" y="6291000"/>
            <a:ext cx="5472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63640" y="1649880"/>
            <a:ext cx="7560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ostante nell’ultima decade in Sardegna i trend infortunistici siano decrescenti, dall’esame dei dati dei Flussi Informativi INAIL-Regioni, emerge che nel 2019 (così come nei precedenti anni), i settori con la frequenza più elevata di infortuni gravi in occasione di lavoro definiti positivamente continuano a essere quello dell’agricoltura e quello delle costruzioni, che rappresentano rispettivamente il 21,9% e l’11,5% del totale di quelli dell’anno 2019 (n. 23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684360" y="333360"/>
            <a:ext cx="7919640" cy="1186920"/>
          </a:xfrm>
          <a:custGeom>
            <a:avLst/>
            <a:gdLst/>
            <a:ahLst/>
            <a:rect l="l" t="t" r="r" b="b"/>
            <a:pathLst>
              <a:path w="22001" h="3299">
                <a:moveTo>
                  <a:pt x="0" y="0"/>
                </a:moveTo>
                <a:lnTo>
                  <a:pt x="22001" y="0"/>
                </a:lnTo>
                <a:lnTo>
                  <a:pt x="22001" y="3299"/>
                </a:lnTo>
                <a:lnTo>
                  <a:pt x="0" y="3299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 lavorator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il Datore di lavoro può svolgere direttamente i compiti prop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l servizio di prevenzione e protezione d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rischi, in questo caso, deve frequentare corsi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Group 2"/>
          <p:cNvGraphicFramePr/>
          <p:nvPr/>
        </p:nvGraphicFramePr>
        <p:xfrm>
          <a:off x="684360" y="1700280"/>
          <a:ext cx="8027640" cy="5013000"/>
        </p:xfrm>
        <a:graphic>
          <a:graphicData uri="http://schemas.openxmlformats.org/drawingml/2006/table">
            <a:tbl>
              <a:tblPr/>
              <a:tblGrid>
                <a:gridCol w="3867840"/>
                <a:gridCol w="4159800"/>
              </a:tblGrid>
              <a:tr h="209196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 che alla data di entrata in vigore dell’Accordo Stato – Regioni (11.01.12) avevano effettuato formazione dai contenuti conformi all’art. 3 del DM 16/01/1997 corso di 16 ore per Datori di Lavoro RS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 entro 5 anni dalla pubblicazione Acco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11047"/>
                        <a:buBlip>
                          <a:blip r:embed="rId1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936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.L. esonerati dalla formazione ai sensi dell’art. 95 delD.Lgs.626/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mpletare il primo 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buSzPct val="132942"/>
                        <a:buBlip>
                          <a:blip r:embed="rId2"/>
                        </a:buBlip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</a:t>
                      </a:r>
                      <a:r>
                        <a:rPr b="0" lang="it-IT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Microsoft YaHei"/>
                        </a:rPr>
                        <a:t>11.01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uccessivi aggiornamenti quinquenn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1427040"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In caso di nuova attivi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90 giorni dalla data di inizio della propria attività corso di durata  di 32 ore (rischio medio) e aggiornamento quinquen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1"/>
          <p:cNvSpPr/>
          <p:nvPr/>
        </p:nvSpPr>
        <p:spPr>
          <a:xfrm>
            <a:off x="590400" y="2492280"/>
            <a:ext cx="7919640" cy="1552320"/>
          </a:xfrm>
          <a:custGeom>
            <a:avLst/>
            <a:gdLst/>
            <a:ahLst/>
            <a:rect l="l" t="t" r="r" b="b"/>
            <a:pathLst>
              <a:path w="22001" h="4315">
                <a:moveTo>
                  <a:pt x="0" y="0"/>
                </a:moveTo>
                <a:lnTo>
                  <a:pt x="22001" y="0"/>
                </a:lnTo>
                <a:lnTo>
                  <a:pt x="22001" y="4315"/>
                </a:lnTo>
                <a:lnTo>
                  <a:pt x="0" y="4315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ersona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apacità ed i requisiti professional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a natura dei rischi presenti sul luogo di lavoro e relativi 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lavorative, in possesso di un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titolo di  studio non infer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 diploma di istruzione secondaria superiore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nonché di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e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frequenza, a specifici corsi di formazione in materi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 e protezione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590400" y="1123920"/>
            <a:ext cx="7919640" cy="455400"/>
          </a:xfrm>
          <a:custGeom>
            <a:avLst/>
            <a:gdLst/>
            <a:ahLst/>
            <a:rect l="l" t="t" r="r" b="b"/>
            <a:pathLst>
              <a:path w="22001" h="1267">
                <a:moveTo>
                  <a:pt x="0" y="0"/>
                </a:moveTo>
                <a:lnTo>
                  <a:pt x="22001" y="0"/>
                </a:lnTo>
                <a:lnTo>
                  <a:pt x="220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RSPP DIVERSO DAL DATORE DI LAVORO ESTERNO O INT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LL’ AZ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393840" y="907920"/>
            <a:ext cx="8392680" cy="942480"/>
          </a:xfrm>
          <a:custGeom>
            <a:avLst/>
            <a:gdLst/>
            <a:ahLst/>
            <a:rect l="l" t="t" r="r" b="b"/>
            <a:pathLst>
              <a:path w="23314" h="2621">
                <a:moveTo>
                  <a:pt x="0" y="0"/>
                </a:moveTo>
                <a:lnTo>
                  <a:pt x="23314" y="0"/>
                </a:lnTo>
                <a:lnTo>
                  <a:pt x="23314" y="2621"/>
                </a:lnTo>
                <a:lnTo>
                  <a:pt x="0" y="262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Designazione dei lavoratori incaricati dell’attuazione 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misure di prevenzione incendi e lotta antincendio,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imo socc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Group 2"/>
          <p:cNvGraphicFramePr/>
          <p:nvPr/>
        </p:nvGraphicFramePr>
        <p:xfrm>
          <a:off x="385920" y="3213000"/>
          <a:ext cx="8365680" cy="2478960"/>
        </p:xfrm>
        <a:graphic>
          <a:graphicData uri="http://schemas.openxmlformats.org/drawingml/2006/table">
            <a:tbl>
              <a:tblPr/>
              <a:tblGrid>
                <a:gridCol w="2420640"/>
                <a:gridCol w="1858680"/>
                <a:gridCol w="2138400"/>
                <a:gridCol w="1584000"/>
                <a:gridCol w="363240"/>
              </a:tblGrid>
              <a:tr h="1521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IMO SOCCO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LTRE 5 LAVORATORI A TEMPO INDETERMIN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6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EGLI ALTRI C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DURATA 12 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93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FORMAZIONE PREVENZIONE INCENDI E LOTTA ANTINCEN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BA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8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RISCHIO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96" name="AutoShape 13"/>
          <p:cNvSpPr/>
          <p:nvPr/>
        </p:nvSpPr>
        <p:spPr>
          <a:xfrm>
            <a:off x="539640" y="1851120"/>
            <a:ext cx="8251560" cy="1001520"/>
          </a:xfrm>
          <a:custGeom>
            <a:avLst/>
            <a:gdLst/>
            <a:ahLst/>
            <a:rect l="l" t="t" r="r" b="b"/>
            <a:pathLst>
              <a:path w="23232" h="2283">
                <a:moveTo>
                  <a:pt x="0" y="0"/>
                </a:moveTo>
                <a:lnTo>
                  <a:pt x="23232" y="0"/>
                </a:lnTo>
                <a:lnTo>
                  <a:pt x="2323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Aziende agricole e zootecniche fino a 30lavoratori  il Datore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uò svolgere direttamente i compiti propri </a:t>
            </a: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prevenzione incendi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lotta antincendio, di primo soccorso  solo se in possesso di 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Calibri"/>
                <a:ea typeface="Microsoft YaHei"/>
              </a:rPr>
              <a:t>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4"/>
          <p:cNvSpPr/>
          <p:nvPr/>
        </p:nvSpPr>
        <p:spPr>
          <a:xfrm>
            <a:off x="393840" y="247680"/>
            <a:ext cx="3746160" cy="577440"/>
          </a:xfrm>
          <a:custGeom>
            <a:avLst/>
            <a:gdLst/>
            <a:ahLst/>
            <a:rect l="l" t="t" r="r" b="b"/>
            <a:pathLst>
              <a:path w="7400" h="1605">
                <a:moveTo>
                  <a:pt x="0" y="0"/>
                </a:moveTo>
                <a:lnTo>
                  <a:pt x="7400" y="0"/>
                </a:lnTo>
                <a:lnTo>
                  <a:pt x="7400" y="1605"/>
                </a:lnTo>
                <a:lnTo>
                  <a:pt x="0" y="1605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	</a:t>
            </a:r>
            <a:r>
              <a:rPr b="1" lang="it-IT" sz="3200" spc="-1" strike="noStrike">
                <a:solidFill>
                  <a:srgbClr val="002060"/>
                </a:solidFill>
                <a:latin typeface="Calibri"/>
                <a:ea typeface="Microsoft YaHei"/>
              </a:rPr>
              <a:t>OBBLIG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1"/>
          <p:cNvSpPr/>
          <p:nvPr/>
        </p:nvSpPr>
        <p:spPr>
          <a:xfrm>
            <a:off x="382680" y="1123920"/>
            <a:ext cx="8208720" cy="820440"/>
          </a:xfrm>
          <a:custGeom>
            <a:avLst/>
            <a:gdLst/>
            <a:ahLst/>
            <a:rect l="l" t="t" r="r" b="b"/>
            <a:pathLst>
              <a:path w="22802" h="2283">
                <a:moveTo>
                  <a:pt x="0" y="0"/>
                </a:moveTo>
                <a:lnTo>
                  <a:pt x="22802" y="0"/>
                </a:lnTo>
                <a:lnTo>
                  <a:pt x="22802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ttività diretta a  far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pprendere ai lavoratori l’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retto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di attrezzature, macchine, impianti, sostanze, dispositiv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nche di protezione individ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"/>
          <p:cNvSpPr/>
          <p:nvPr/>
        </p:nvSpPr>
        <p:spPr>
          <a:xfrm>
            <a:off x="2943360" y="404640"/>
            <a:ext cx="3188880" cy="515520"/>
          </a:xfrm>
          <a:custGeom>
            <a:avLst/>
            <a:gdLst/>
            <a:ahLst/>
            <a:rect l="l" t="t" r="r" b="b"/>
            <a:pathLst>
              <a:path w="8859" h="1436">
                <a:moveTo>
                  <a:pt x="0" y="0"/>
                </a:moveTo>
                <a:lnTo>
                  <a:pt x="8859" y="0"/>
                </a:lnTo>
                <a:lnTo>
                  <a:pt x="8859" y="1436"/>
                </a:lnTo>
                <a:lnTo>
                  <a:pt x="0" y="1436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STR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406440" y="2654280"/>
            <a:ext cx="8121240" cy="820440"/>
          </a:xfrm>
          <a:custGeom>
            <a:avLst/>
            <a:gdLst/>
            <a:ahLst/>
            <a:rect l="l" t="t" r="r" b="b"/>
            <a:pathLst>
              <a:path w="22563" h="2283">
                <a:moveTo>
                  <a:pt x="0" y="0"/>
                </a:moveTo>
                <a:lnTo>
                  <a:pt x="22563" y="0"/>
                </a:lnTo>
                <a:lnTo>
                  <a:pt x="22563" y="2283"/>
                </a:lnTo>
                <a:lnTo>
                  <a:pt x="0" y="2283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accordo stato-regioni del 22 febbraio 2012 sancis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l’obbligo di specifica abilitazione professionale degli ope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addetti all’uso del trattore agricolo o fore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1619280" y="4221000"/>
            <a:ext cx="5832000" cy="1918800"/>
          </a:xfrm>
          <a:custGeom>
            <a:avLst/>
            <a:gdLst/>
            <a:ahLst/>
            <a:rect l="l" t="t" r="r" b="b"/>
            <a:pathLst>
              <a:path w="16201" h="5331">
                <a:moveTo>
                  <a:pt x="0" y="0"/>
                </a:moveTo>
                <a:lnTo>
                  <a:pt x="16201" y="0"/>
                </a:lnTo>
                <a:lnTo>
                  <a:pt x="16201" y="5331"/>
                </a:lnTo>
                <a:lnTo>
                  <a:pt x="0" y="5331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orso specifico della durata di 8 -13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giuri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Modulo p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tabLst>
                <a:tab algn="l" pos="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                                                        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Verifica finale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1"/>
          <p:cNvSpPr/>
          <p:nvPr/>
        </p:nvSpPr>
        <p:spPr>
          <a:xfrm>
            <a:off x="611280" y="404640"/>
            <a:ext cx="7775280" cy="455400"/>
          </a:xfrm>
          <a:custGeom>
            <a:avLst/>
            <a:gdLst/>
            <a:ahLst/>
            <a:rect l="l" t="t" r="r" b="b"/>
            <a:pathLst>
              <a:path w="21601" h="1267">
                <a:moveTo>
                  <a:pt x="0" y="0"/>
                </a:moveTo>
                <a:lnTo>
                  <a:pt x="21601" y="0"/>
                </a:lnTo>
                <a:lnTo>
                  <a:pt x="21601" y="1267"/>
                </a:lnTo>
                <a:lnTo>
                  <a:pt x="0" y="1267"/>
                </a:lnTo>
                <a:close/>
              </a:path>
            </a:pathLst>
          </a:custGeom>
          <a:gradFill rotWithShape="0">
            <a:gsLst>
              <a:gs pos="0">
                <a:srgbClr val="9cdfff"/>
              </a:gs>
              <a:gs pos="100000">
                <a:srgbClr val="f8fcff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439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  <a:ea typeface="Microsoft YaHei"/>
              </a:rPr>
              <a:t>CHI E QUANDO DEVE CONSEGUIRE L’ABILI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Group 2"/>
          <p:cNvGraphicFramePr/>
          <p:nvPr/>
        </p:nvGraphicFramePr>
        <p:xfrm>
          <a:off x="324000" y="1052640"/>
          <a:ext cx="8426160" cy="5395680"/>
        </p:xfrm>
        <a:graphic>
          <a:graphicData uri="http://schemas.openxmlformats.org/drawingml/2006/table">
            <a:tbl>
              <a:tblPr/>
              <a:tblGrid>
                <a:gridCol w="3643200"/>
                <a:gridCol w="1974600"/>
                <a:gridCol w="2808000"/>
              </a:tblGrid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OPERATORI CHE AL 31.12.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FORM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N sono addetti alla conduzione del trattore agricolo o forestale e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Prima dell’util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2280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GIÀ addetti alla conduzione del trattore agricolo o forestale, ma NON hanno nessuno dei requisiti (esperienza documentata o formazio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5 anni dall’avvenuta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12"/>
          <p:cNvSpPr/>
          <p:nvPr/>
        </p:nvSpPr>
        <p:spPr>
          <a:xfrm>
            <a:off x="6948360" y="6453360"/>
            <a:ext cx="2015640" cy="286920"/>
          </a:xfrm>
          <a:custGeom>
            <a:avLst/>
            <a:gdLst/>
            <a:ahLst/>
            <a:rect l="l" t="t" r="r" b="b"/>
            <a:pathLst>
              <a:path w="5600" h="7320">
                <a:moveTo>
                  <a:pt x="0" y="4060"/>
                </a:moveTo>
                <a:lnTo>
                  <a:pt x="1159" y="4060"/>
                </a:lnTo>
                <a:lnTo>
                  <a:pt x="1159" y="0"/>
                </a:lnTo>
                <a:lnTo>
                  <a:pt x="5600" y="400"/>
                </a:lnTo>
                <a:lnTo>
                  <a:pt x="1159" y="799"/>
                </a:lnTo>
                <a:lnTo>
                  <a:pt x="1159" y="-3260"/>
                </a:lnTo>
                <a:lnTo>
                  <a:pt x="0" y="-3260"/>
                </a:lnTo>
                <a:close/>
              </a:path>
            </a:pathLst>
          </a:custGeom>
          <a:gradFill rotWithShape="0">
            <a:gsLst>
              <a:gs pos="0">
                <a:srgbClr val="60b100"/>
              </a:gs>
              <a:gs pos="100000">
                <a:srgbClr val="d7ffb7"/>
              </a:gs>
            </a:gsLst>
            <a:path path="rect">
              <a:fillToRect l="29000" t="29000" r="71000" b="71000"/>
            </a:path>
          </a:gradFill>
          <a:ln w="9360">
            <a:solidFill>
              <a:srgbClr val="7baf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Group 1"/>
          <p:cNvGraphicFramePr/>
          <p:nvPr/>
        </p:nvGraphicFramePr>
        <p:xfrm>
          <a:off x="324000" y="765000"/>
          <a:ext cx="8497440" cy="5822640"/>
        </p:xfrm>
        <a:graphic>
          <a:graphicData uri="http://schemas.openxmlformats.org/drawingml/2006/table">
            <a:tbl>
              <a:tblPr/>
              <a:tblGrid>
                <a:gridCol w="3876480"/>
                <a:gridCol w="2028600"/>
                <a:gridCol w="2592360"/>
              </a:tblGrid>
              <a:tr h="807840">
                <a:tc>
                  <a:txBody>
                    <a:bodyPr tIns="61560" bIns="45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</a:tabLst>
                      </a:pPr>
                      <a:endParaRPr b="0" lang="it-IT" sz="1800" spc="-1" strike="noStrike">
                        <a:solidFill>
                          <a:srgbClr val="000000"/>
                        </a:solidFill>
                        <a:latin typeface="Arial"/>
                        <a:ea typeface="Microsoft YaHe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RSO DI FORM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Sono addetti alla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conduzione</a:t>
                      </a: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 e hanno esperienza documentata almeno pari a 2 an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13-03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58328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NON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184752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Hanno una formazione pregressa equiparabile a quella prevista dall’Accordo del 22/02/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0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Entro 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</a:tabLst>
                      </a:pPr>
                      <a:r>
                        <a:rPr b="1" lang="it-IT" sz="2400" spc="-1" strike="noStrike">
                          <a:solidFill>
                            <a:srgbClr val="002060"/>
                          </a:solidFill>
                          <a:latin typeface="Calibri"/>
                          <a:ea typeface="Microsoft YaHei"/>
                        </a:rPr>
                        <a:t>31-12-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11280" y="692280"/>
            <a:ext cx="7992720" cy="1944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84360" y="1197000"/>
            <a:ext cx="7632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611280" y="1857240"/>
            <a:ext cx="7885800" cy="416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67640" y="1643040"/>
            <a:ext cx="8496720" cy="508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85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0" y="2071800"/>
            <a:ext cx="9143640" cy="1642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3"/>
          <a:stretch/>
        </p:blipFill>
        <p:spPr>
          <a:xfrm>
            <a:off x="0" y="3500280"/>
            <a:ext cx="9143640" cy="1785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li infortuni in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tangolo 1"/>
          <p:cNvSpPr/>
          <p:nvPr/>
        </p:nvSpPr>
        <p:spPr>
          <a:xfrm flipH="1" flipV="1" rot="10800000">
            <a:off x="827280" y="1922040"/>
            <a:ext cx="7416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oiché nel settore agricolo la frequenza degli infortuni e soprattutto la gravità degli stessi è quindi tuttora elevata, si rende necessario intervenire prioritariamente sui determinanti di tali infortuni, orientando uno specifico </a:t>
            </a:r>
            <a:r>
              <a:rPr b="1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Piano Mirato di Prevenzione (PMP) sui rischi legati all’uso delle attrezzature agricole </a:t>
            </a: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(quali trattori, motozappatrici, motoseghe, decespugliatori, cesoie, seghe, attrezzature di taglio, ec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Il gruppo di interesse per questo PMP è costituito dalle aziende agricole, comprese le aziende zootecniche e florovivaistiche, e dai coltivatori dire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3"/>
          <p:cNvSpPr/>
          <p:nvPr/>
        </p:nvSpPr>
        <p:spPr>
          <a:xfrm>
            <a:off x="609480" y="119664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28600" y="1349280"/>
            <a:ext cx="8915040" cy="86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2"/>
          <a:stretch/>
        </p:blipFill>
        <p:spPr>
          <a:xfrm>
            <a:off x="539640" y="1928880"/>
            <a:ext cx="3746160" cy="4308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3"/>
          <a:stretch/>
        </p:blipFill>
        <p:spPr>
          <a:xfrm>
            <a:off x="5168880" y="2000160"/>
            <a:ext cx="3147120" cy="4143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971640" y="1928880"/>
            <a:ext cx="7704360" cy="1540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3"/>
          <a:stretch/>
        </p:blipFill>
        <p:spPr>
          <a:xfrm>
            <a:off x="609480" y="3643200"/>
            <a:ext cx="8066520" cy="252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0" y="189000"/>
            <a:ext cx="896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755640" y="1928880"/>
            <a:ext cx="7848360" cy="4230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24000" y="189000"/>
            <a:ext cx="8640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09480" y="10666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899640" y="2286000"/>
            <a:ext cx="7272360" cy="340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85716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1763640" y="1928880"/>
            <a:ext cx="6022800" cy="461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763640" y="1857240"/>
            <a:ext cx="5665320" cy="4455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11280" y="189000"/>
            <a:ext cx="83530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09480" y="1268280"/>
            <a:ext cx="8534520" cy="360"/>
          </a:xfrm>
          <a:prstGeom prst="line">
            <a:avLst/>
          </a:prstGeom>
          <a:ln w="5715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68360" y="1233360"/>
            <a:ext cx="828000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</a:pPr>
            <a:endParaRPr b="1" lang="it-IT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1928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2"/>
          <a:stretch/>
        </p:blipFill>
        <p:spPr>
          <a:xfrm>
            <a:off x="0" y="1928880"/>
            <a:ext cx="9143640" cy="4928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Tabella 1"/>
          <p:cNvGraphicFramePr/>
          <p:nvPr/>
        </p:nvGraphicFramePr>
        <p:xfrm>
          <a:off x="0" y="1268640"/>
          <a:ext cx="9143640" cy="4392000"/>
        </p:xfrm>
        <a:graphic>
          <a:graphicData uri="http://schemas.openxmlformats.org/drawingml/2006/table">
            <a:tbl>
              <a:tblPr/>
              <a:tblGrid>
                <a:gridCol w="476280"/>
                <a:gridCol w="4246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e produzione di prodotti animali, caccia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olture agricol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di colture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iproduzione delle p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agricole associate all'allevamento di animali: attività 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64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'agricoltura e attività successive al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ccia, cattura di animali e servizi connes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53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r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e meloni, radici e tub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eparazione di fibre tess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408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loricoltura e coltivazion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46" name="Rettangolo arrotondato 2"/>
          <p:cNvSpPr/>
          <p:nvPr/>
        </p:nvSpPr>
        <p:spPr>
          <a:xfrm>
            <a:off x="467640" y="404640"/>
            <a:ext cx="8280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ttangolo arrotondato 13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ttangolo 1"/>
          <p:cNvSpPr/>
          <p:nvPr/>
        </p:nvSpPr>
        <p:spPr>
          <a:xfrm flipH="1" flipV="1" rot="10800000">
            <a:off x="827280" y="2677320"/>
            <a:ext cx="7596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333333"/>
                </a:solidFill>
                <a:latin typeface="Calibri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Dalla stessa analisi quantitativa si è rilevato, tra l’altro, che nel settore agricoltura in Sardegna, mentre per i lavoratori autoctoni gli infortuni denunciati e gli infortuni definiti positivamente presentano trend decrescenti, per i lavoratori stranieri si osservano andamenti pressoché costanti dal 2008 al 20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tangolo 10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ttangolo 11"/>
          <p:cNvSpPr/>
          <p:nvPr/>
        </p:nvSpPr>
        <p:spPr>
          <a:xfrm>
            <a:off x="660600" y="203112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 fine di delineare elementi di dissequità di salute, i suddetti dati infortunistici sono stati stratificati per nazionalità dei lavoratori e per fascia d’età e gen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Tabella 1"/>
          <p:cNvGraphicFramePr/>
          <p:nvPr/>
        </p:nvGraphicFramePr>
        <p:xfrm>
          <a:off x="0" y="1268640"/>
          <a:ext cx="9143640" cy="4170960"/>
        </p:xfrm>
        <a:graphic>
          <a:graphicData uri="http://schemas.openxmlformats.org/drawingml/2006/table">
            <a:tbl>
              <a:tblPr/>
              <a:tblGrid>
                <a:gridCol w="539280"/>
                <a:gridCol w="4183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3747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05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u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a di origine tropicale e subtropi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gru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omacee e frutta a nocci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i alberi da frutta, frutti di bosco e in gus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rutt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per la produzione di beva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pezie, piante aromatiche e farmaceu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altre colture permanenti (inclusi alberi di Nata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e da latte, produzione di latte cru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bovini e bufalini da car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avalli e altri eq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ovini e capr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sui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poll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72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348" name="Rettangolo arrotondato 2"/>
          <p:cNvSpPr/>
          <p:nvPr/>
        </p:nvSpPr>
        <p:spPr>
          <a:xfrm>
            <a:off x="467640" y="404640"/>
            <a:ext cx="8280720" cy="431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Tabella 1"/>
          <p:cNvGraphicFramePr/>
          <p:nvPr/>
        </p:nvGraphicFramePr>
        <p:xfrm>
          <a:off x="0" y="1484640"/>
          <a:ext cx="9143640" cy="3913920"/>
        </p:xfrm>
        <a:graphic>
          <a:graphicData uri="http://schemas.openxmlformats.org/drawingml/2006/table">
            <a:tbl>
              <a:tblPr/>
              <a:tblGrid>
                <a:gridCol w="467280"/>
                <a:gridCol w="425520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vege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3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che seguono la racco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cereali (escluso il ris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legumi da granel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i miste di cereali, legumi da granella e semi oleo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piena aria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34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ortaggi (inclusi i meloni) in foglia, a fusto, a frutto, in radici, bulbi e tuberi in colture protette (escluse barbabietola da zucchero e pata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barbabietola da zucch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246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a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0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Tabella 1"/>
          <p:cNvGraphicFramePr/>
          <p:nvPr/>
        </p:nvGraphicFramePr>
        <p:xfrm>
          <a:off x="0" y="1700640"/>
          <a:ext cx="9143640" cy="3888000"/>
        </p:xfrm>
        <a:graphic>
          <a:graphicData uri="http://schemas.openxmlformats.org/drawingml/2006/table">
            <a:tbl>
              <a:tblPr/>
              <a:tblGrid>
                <a:gridCol w="650520"/>
                <a:gridCol w="4071960"/>
                <a:gridCol w="572760"/>
                <a:gridCol w="462960"/>
                <a:gridCol w="555840"/>
                <a:gridCol w="542520"/>
                <a:gridCol w="607320"/>
                <a:gridCol w="515880"/>
                <a:gridCol w="627480"/>
                <a:gridCol w="534960"/>
              </a:tblGrid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ss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l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u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anuse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ris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anlu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rb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it-IT" sz="11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agli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piena 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fiori in colture prote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05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ltivazione di piante da foraggio e di altre colture non perman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conig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achico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levamento di altri animali n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ttività dei maniscal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492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attività di supporto alla produzione animale (esclusi i servizi veterina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ulitura e cernita di semi e granag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it-IT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6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ltre lavorazioni delle sementi per la sem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38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dice ATECO non inser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983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1" lang="it-IT" sz="12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OT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it-IT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040" marR="410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52" name="Rettangolo arrotondato 2"/>
          <p:cNvSpPr/>
          <p:nvPr/>
        </p:nvSpPr>
        <p:spPr>
          <a:xfrm>
            <a:off x="467640" y="404640"/>
            <a:ext cx="835272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e aziende agricole in Sardegna - dati Camera di Commercio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asellaDiTesto 3"/>
          <p:cNvSpPr/>
          <p:nvPr/>
        </p:nvSpPr>
        <p:spPr>
          <a:xfrm>
            <a:off x="3348000" y="602496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tale complessivo: 374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 flipV="1">
            <a:off x="179640" y="72900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12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7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magine 13" descr=""/>
          <p:cNvPicPr/>
          <p:nvPr/>
        </p:nvPicPr>
        <p:blipFill>
          <a:blip r:embed="rId2"/>
          <a:stretch/>
        </p:blipFill>
        <p:spPr>
          <a:xfrm>
            <a:off x="1475640" y="1484640"/>
            <a:ext cx="6265800" cy="3109680"/>
          </a:xfrm>
          <a:prstGeom prst="rect">
            <a:avLst/>
          </a:prstGeom>
          <a:ln w="0">
            <a:noFill/>
          </a:ln>
        </p:spPr>
      </p:pic>
      <p:sp>
        <p:nvSpPr>
          <p:cNvPr id="215" name="CasellaDiTesto 14"/>
          <p:cNvSpPr/>
          <p:nvPr/>
        </p:nvSpPr>
        <p:spPr>
          <a:xfrm>
            <a:off x="404640" y="5085360"/>
            <a:ext cx="8487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Quanto si osserva 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Calibri"/>
              </a:rPr>
              <a:t>potrebbe rappresentare una visione parziale dell’effettiva realtà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poiché, come è noto, il settore agricoltura risente della presenza di una forte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mponente di lavoro sommers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he coinvolge soprattutto gli immigrati che svolgono lavori stagionali. Tale aspetto lascia intuire che un numero consistente di eventi infortunistici a danno degli immigrati possa non essere intercettato dal sistema prevenzionistico e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asellaDiTesto 15"/>
          <p:cNvSpPr/>
          <p:nvPr/>
        </p:nvSpPr>
        <p:spPr>
          <a:xfrm>
            <a:off x="1762200" y="4725000"/>
            <a:ext cx="59216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Fonte: Elaborazioni su dati dei </a:t>
            </a:r>
            <a:r>
              <a:rPr b="0" i="1" lang="it-IT" sz="1000" spc="-1" strike="noStrike">
                <a:solidFill>
                  <a:srgbClr val="000000"/>
                </a:solidFill>
                <a:latin typeface="Calibri"/>
              </a:rPr>
              <a:t>Flussi Informativi INAIL-Regioni (Ultimo Aggiornamento Aprile 20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ttangolo arrotondato 10"/>
          <p:cNvSpPr/>
          <p:nvPr/>
        </p:nvSpPr>
        <p:spPr>
          <a:xfrm>
            <a:off x="647640" y="8834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flipV="1">
            <a:off x="0" y="52344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0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ttangolo 3"/>
          <p:cNvSpPr/>
          <p:nvPr/>
        </p:nvSpPr>
        <p:spPr>
          <a:xfrm>
            <a:off x="392040" y="1298160"/>
            <a:ext cx="8568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Le frequenze di infortuni più alte riguardano lavoratori rumeni nonché lavoratori provenienti dall’Africa centro-settentrionale (che notoriamente vivono in condizioni di forte disagio e godono di minori tutele rispetto ai cittadini europe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on riferimento all’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età dei 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Arial"/>
              </a:rPr>
              <a:t>che hanno subito un infortunio emerge che il 71% è di età compresa tra i 25 e 49 anni e la fascia di età per la quale si registra il maggior numero di eventi è quella tra i 45 e 49 anni (16,1). Inoltre, la figura sottostante evidenzia che per i lavoratori stranieri, rispetto agli italiani, si ha un arretramento della distribuzione degli infortuni verso le prime fasce d’età, coinvolgendo soprattutto i lavoratori giovani e in misura minore i lavoratori di età superiore ai 50 an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7" descr=""/>
          <p:cNvPicPr/>
          <p:nvPr/>
        </p:nvPicPr>
        <p:blipFill>
          <a:blip r:embed="rId2"/>
          <a:stretch/>
        </p:blipFill>
        <p:spPr>
          <a:xfrm>
            <a:off x="1763640" y="3452760"/>
            <a:ext cx="5825520" cy="343260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arrotondato 10"/>
          <p:cNvSpPr/>
          <p:nvPr/>
        </p:nvSpPr>
        <p:spPr>
          <a:xfrm>
            <a:off x="647640" y="7646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e disequità nel settore agrico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 flipV="1">
            <a:off x="179640" y="548280"/>
            <a:ext cx="8712720" cy="59760"/>
          </a:xfrm>
          <a:prstGeom prst="rect">
            <a:avLst/>
          </a:prstGeom>
          <a:solidFill>
            <a:srgbClr val="00b0f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</a:pPr>
            <a:endParaRPr b="0" lang="it-IT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Immagine 9" descr=""/>
          <p:cNvPicPr/>
          <p:nvPr/>
        </p:nvPicPr>
        <p:blipFill>
          <a:blip r:embed="rId1"/>
          <a:stretch/>
        </p:blipFill>
        <p:spPr>
          <a:xfrm>
            <a:off x="-12960" y="360"/>
            <a:ext cx="561600" cy="604080"/>
          </a:xfrm>
          <a:prstGeom prst="rect">
            <a:avLst/>
          </a:prstGeom>
          <a:ln w="0">
            <a:noFill/>
          </a:ln>
        </p:spPr>
      </p:pic>
      <p:sp>
        <p:nvSpPr>
          <p:cNvPr id="227" name="CasellaDiTesto 12"/>
          <p:cNvSpPr/>
          <p:nvPr/>
        </p:nvSpPr>
        <p:spPr>
          <a:xfrm>
            <a:off x="467640" y="21600"/>
            <a:ext cx="107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PreSAL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ttangolo 8"/>
          <p:cNvSpPr/>
          <p:nvPr/>
        </p:nvSpPr>
        <p:spPr>
          <a:xfrm>
            <a:off x="2555640" y="188640"/>
            <a:ext cx="657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eminario di Avvio del PMP relativo al rischio legato all’utilizzo di attrezzature agricole nel settore agricol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ttangolo 1"/>
          <p:cNvSpPr/>
          <p:nvPr/>
        </p:nvSpPr>
        <p:spPr>
          <a:xfrm>
            <a:off x="359640" y="1203840"/>
            <a:ext cx="835272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ai suddetti dati è emersa la criticità relativa allo svolgi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ttività stagio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quanto i lavoratori stagionali - non maturando sufficiente esperienza lavorativa su una mansione specifica e avendo solitamente una formazione sulla sicurezza sul lavoro superficiale e non consolidata - sono maggiormente esposti ai rischi lavorativi del settore agrico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tte attività stagionali in agricoltura spesso vengono svolte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voratori stranie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 ciò accentua le disuguaglianze di salute. Infatti, numerose evidenze di letteratura descrivono i migranti come soggetti particolarmente fragili ed esposti ai rischi per la salute e la sicurezza negli ambienti di lavoro in misura più significativa rispetto ai lavoratori autoct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particolare si evidenzia che i lavoratori stranieri sono occupati principalmente in lavori definiti com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rty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ngerous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fficult jobs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(sporchi, pericolosi e diffic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i) - e, oltre che essere faticosi e rischiosi, sono caratterizzati dall’essere precari, di bassa qualifica e bassa remunerazione. In genere, lavorano per un numero di ore più elevato rispetto ai lavoratori autoctoni, tenuto conto della loro maggiore disponibilità a orari prolungati o in giorni festiv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ttangolo arrotondato 6"/>
          <p:cNvSpPr/>
          <p:nvPr/>
        </p:nvSpPr>
        <p:spPr>
          <a:xfrm>
            <a:off x="647640" y="725040"/>
            <a:ext cx="7776360" cy="359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avoratori stagionali e strani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316680" y="3501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i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uttura predefinita">
  <a:themeElements>
    <a:clrScheme name="Struttura predefinita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5</TotalTime>
  <Application>LibreOffice/7.4.7.2$Linux_X86_64 LibreOffice_project/40$Build-2</Application>
  <AppVersion>15.0000</AppVersion>
  <Words>3084</Words>
  <Paragraphs>858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2T10:29:29Z</dcterms:created>
  <dc:creator>Tutan</dc:creator>
  <dc:description/>
  <dc:language>en-US</dc:language>
  <cp:lastModifiedBy>Ignazio Espa  </cp:lastModifiedBy>
  <dcterms:modified xsi:type="dcterms:W3CDTF">2022-09-29T11:33:46Z</dcterms:modified>
  <cp:revision>424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6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62</vt:r8>
  </property>
</Properties>
</file>