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-36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CDAF5BA5-7D2E-4B44-9DAE-3D945093DAE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44C60FCA-1E9E-4DC5-8F36-7B64036FA20E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23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7A5D471C-4505-4114-80F5-F420E25A5ADF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6200" cy="4008240"/>
          </a:xfrm>
          <a:prstGeom prst="rect">
            <a:avLst/>
          </a:prstGeom>
          <a:ln w="0">
            <a:noFill/>
          </a:ln>
        </p:spPr>
      </p:sp>
      <p:sp>
        <p:nvSpPr>
          <p:cNvPr id="242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697B1942-8A9D-4459-A18E-17D00D8FB8D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0309A8D3-8E77-4151-8DFF-D58DB08DA515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48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3E87E328-01E8-4175-9FE1-5DA04EF347C2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16000" y="812880"/>
            <a:ext cx="7127640" cy="4008240"/>
          </a:xfrm>
          <a:prstGeom prst="rect">
            <a:avLst/>
          </a:prstGeom>
          <a:ln w="0">
            <a:noFill/>
          </a:ln>
        </p:spPr>
      </p:sp>
      <p:sp>
        <p:nvSpPr>
          <p:cNvPr id="25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4278240" y="1015668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A845958E-4C85-4006-8129-6EB960757FB8}" type="slidenum">
              <a:rPr b="0" lang="it-IT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4" name="Text Box 2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C595E484-16FB-4988-AE10-B810C244D401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ED014-50C9-49EB-A412-3BC2E97B7C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66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678480"/>
            <a:ext cx="109666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CBCCE-7D51-4E38-A5C5-1E8DF74A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2836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B9DCA-E796-419D-A429-85476F10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316760" y="160452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024760" y="160452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67848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316760" y="367848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024760" y="367848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1D09C-535A-49D0-B286-62D652F89C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65F67-E9AE-4361-9E5C-B25EAEAFAB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120" y="1604520"/>
            <a:ext cx="1096668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2A52D-CB12-45AF-B351-473357B6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668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7D38B-E600-4850-9EDA-CD201EB5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0C239-EAD3-436B-8DC3-1BCB7D31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65A7F-7C74-4D2B-A688-3F89F49B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04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621191-67A5-457A-805A-BEAB69F0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62ACB-5A5A-40A7-B3E2-B02E4FE9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604520"/>
            <a:ext cx="1096668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32DE9-B749-4656-B2AB-158C6B9B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2836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6B1B2-4F65-4206-A171-B8C3EE39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109666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8489A-C37B-4E09-9C2C-40A4F636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66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120" y="3678480"/>
            <a:ext cx="109666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742737-D481-461D-AF7F-D396D11A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2836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0AE71-3931-48B7-85F8-438F17EE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316760" y="160452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024760" y="160452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120" y="367848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316760" y="367848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024760" y="367848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D72EE-AE0E-4017-8CD0-F68C82FFDA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3DF1-3FE6-46F2-8D62-ED0F280AB6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1604520"/>
            <a:ext cx="1096668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DAEB-78EF-418A-B282-D3ADA158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668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D671-FBF6-4B0A-9114-9222108B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FD61-A3C6-4C16-BC03-9FD28F10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C067-7684-4081-B410-D51D0208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668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6F9F4-B928-470C-9E38-B1DC8E98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04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308E-0C39-4312-8F8B-B6CEDF80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2385-C43A-49E4-A3A1-3414A8DF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2836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E635-D9AB-4246-A9C5-976D71EF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109666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C24A-F7AA-42D4-B8E1-E47490AD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109666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09120" y="3678480"/>
            <a:ext cx="109666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EA06-E58B-4DD6-A67F-52B8951A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2836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7C61-3171-4A90-A533-5058937E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16760" y="160452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024760" y="160452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09120" y="367848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16760" y="367848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024760" y="3678480"/>
            <a:ext cx="35308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FD30-76D3-4A65-96BD-00EED2F639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3ED7D-49E3-4A77-930F-354151AB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2285-753E-49C1-9EF9-26DF9B2E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0480" cy="66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7DD96-A590-4AE6-A4C6-C490884D2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64ED7-436C-45EF-95C8-EDAA1511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28360" y="367848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4980-CFE0-4E4C-A0A1-97C5E183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28360" y="1604520"/>
            <a:ext cx="535140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678480"/>
            <a:ext cx="10966680" cy="18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4EA73-1C77-4BAA-B1E4-2D5E57F5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 hidden="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 hidden="1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1208160" y="4343400"/>
            <a:ext cx="987588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96920" y="758880"/>
            <a:ext cx="100504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652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30/01/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9900720" y="6459480"/>
            <a:ext cx="13035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329EDC6B-7290-4BC7-8909-FCD08575C888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648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0480" cy="4014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1096920" y="6459480"/>
            <a:ext cx="24652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9900720" y="6459480"/>
            <a:ext cx="13035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7F459143-0AAF-45B6-A956-C89171AB6238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193760" y="1738440"/>
            <a:ext cx="9966240" cy="144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048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5"/>
          </p:nvPr>
        </p:nvSpPr>
        <p:spPr>
          <a:xfrm>
            <a:off x="1096920" y="6459480"/>
            <a:ext cx="24652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  <a:defRPr b="0" lang="it-IT" sz="9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it-IT" sz="900" spc="-1" strike="noStrike">
                <a:solidFill>
                  <a:srgbClr val="ffffff"/>
                </a:solidFill>
                <a:latin typeface="Calibri"/>
                <a:ea typeface="Segoe UI"/>
              </a:rPr>
              <a:t>30/01/1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68604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035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  <a:defRPr b="0" lang="it-IT" sz="1100" spc="-1" strike="noStrike">
                <a:solidFill>
                  <a:srgbClr val="ffffff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fld id="{E99C96AE-710E-4842-BA88-92FA59B3AD9D}" type="slidenum">
              <a:rPr b="0" lang="it-IT" sz="1100" spc="-1" strike="noStrike">
                <a:solidFill>
                  <a:srgbClr val="ffffff"/>
                </a:solidFill>
                <a:latin typeface="Calibri"/>
                <a:ea typeface="Segoe U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09120" y="1604520"/>
            <a:ext cx="1096668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2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343080" indent="-343080">
              <a:lnSpc>
                <a:spcPct val="92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758880"/>
            <a:ext cx="100584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alibri Light"/>
              </a:rPr>
              <a:t>Misurazione del Rischio – Allegato 2PTPCT 2025-2027- Sezione Anticorruzione e Trasparenza PIAO  ASL SULCISIGLESI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100160" y="445572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0080"/>
                <a:tab algn="l" pos="549360"/>
                <a:tab algn="l" pos="998640"/>
                <a:tab algn="l" pos="1447920"/>
                <a:tab algn="l" pos="1897200"/>
                <a:tab algn="l" pos="2346480"/>
                <a:tab algn="l" pos="2795760"/>
                <a:tab algn="l" pos="3244680"/>
                <a:tab algn="l" pos="3693960"/>
                <a:tab algn="l" pos="4143240"/>
                <a:tab algn="l" pos="4592520"/>
                <a:tab algn="l" pos="5041800"/>
                <a:tab algn="l" pos="5491080"/>
                <a:tab algn="l" pos="5943600"/>
                <a:tab algn="l" pos="6389640"/>
                <a:tab algn="l" pos="6838920"/>
                <a:tab algn="l" pos="7288200"/>
                <a:tab algn="l" pos="7737480"/>
                <a:tab algn="l" pos="8186760"/>
                <a:tab algn="l" pos="863604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it-IT" sz="2400" spc="-1" strike="noStrike">
                <a:solidFill>
                  <a:srgbClr val="637052"/>
                </a:solidFill>
                <a:latin typeface="Calibri Light"/>
              </a:rPr>
              <a:t>METODOLOGIA E INDICATORI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100080"/>
                <a:tab algn="l" pos="549360"/>
                <a:tab algn="l" pos="998640"/>
                <a:tab algn="l" pos="1447920"/>
                <a:tab algn="l" pos="1897200"/>
                <a:tab algn="l" pos="2346480"/>
                <a:tab algn="l" pos="2795760"/>
                <a:tab algn="l" pos="3244680"/>
                <a:tab algn="l" pos="3693960"/>
                <a:tab algn="l" pos="4143240"/>
                <a:tab algn="l" pos="4592520"/>
                <a:tab algn="l" pos="5041800"/>
                <a:tab algn="l" pos="5491080"/>
                <a:tab algn="l" pos="5943600"/>
                <a:tab algn="l" pos="6389640"/>
                <a:tab algn="l" pos="6838920"/>
                <a:tab algn="l" pos="7288200"/>
                <a:tab algn="l" pos="7737480"/>
                <a:tab algn="l" pos="8186760"/>
                <a:tab algn="l" pos="863604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457200" indent="-4492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l presente documento illustra sinteticamente la metodologia adottata per la misurazione del risch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misurazione del rischio prevede l’attribuzione di un valore alle due variabili caratterizzanti il rischio stess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0"/>
                <a:tab algn="l" pos="45720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 Probabilità che l’evento accada (P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AutoNum type="arabicParenR"/>
              <a:tabLst>
                <a:tab algn="l" pos="0"/>
                <a:tab algn="l" pos="45720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atto che tale evento genera (I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’interazione delle singole variabili consente di definire il livello di rischio del singolo proces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er ogni variabile sono stati individuati i fattori di valutazi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45720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Probabilità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73120" y="1670040"/>
          <a:ext cx="11183760" cy="4592520"/>
        </p:xfrm>
        <a:graphic>
          <a:graphicData uri="http://schemas.openxmlformats.org/drawingml/2006/table">
            <a:tbl>
              <a:tblPr/>
              <a:tblGrid>
                <a:gridCol w="3016080"/>
                <a:gridCol w="1554480"/>
                <a:gridCol w="1595160"/>
                <a:gridCol w="1716120"/>
                <a:gridCol w="1820880"/>
                <a:gridCol w="1481040"/>
              </a:tblGrid>
              <a:tr h="846000"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m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2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co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lto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amente probabi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ndice di Discrezionalità del proce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col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dalla legge e da atti amministrati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solo dalla leg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zialmente vincolata solo da atti amministrativ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tamente discre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decentralizzazione (UP, filiale, region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partime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à operativ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manualità (vs automazion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n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va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 Manu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Efficacia dei controlli, per la neutralizzazione dei rischi, sulla base della esperienza pregress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un efficace strumento per neutralizzare il risch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olto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ediamente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è minimamente effica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l Controllo non incide sul rischi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Rilevanza Esterna: il processo ha come destinatari uffici interni alla ATS o utenti e  estern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non particolare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media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particolare 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taggi a soggetti esterni di elevata rilevanz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Impatto – fattori di valutazion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87400" y="1819440"/>
          <a:ext cx="10593360" cy="3612960"/>
        </p:xfrm>
        <a:graphic>
          <a:graphicData uri="http://schemas.openxmlformats.org/drawingml/2006/table">
            <a:tbl>
              <a:tblPr/>
              <a:tblGrid>
                <a:gridCol w="2770200"/>
                <a:gridCol w="1763640"/>
                <a:gridCol w="1774800"/>
                <a:gridCol w="1486080"/>
                <a:gridCol w="1495440"/>
                <a:gridCol w="1303200"/>
              </a:tblGrid>
              <a:tr h="528480"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rascurabi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2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3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4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dio/al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5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48312"/>
                    </a:solidFill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tto Economico: Sono state  pronunciate sentenze delle Corte conti o sentenze di risarcimento danno o comminate sanzion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9144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Numerosità di persone coinvol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3 - 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6 -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 </a:t>
                      </a: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tra 11 -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Oltre 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Impatto economico potenzi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eriore a 1.000 eu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.001 euro e 1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10.001 euro e 5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 50.001 euro e 100.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ltre 100.001 eu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Livello di collocazione del risch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det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arico di organizzazi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U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UO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1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ttore di Dipartimen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9ece7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ono stati pubblicati su riviste giornali articoli aventi ad oggetto il proces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 ricord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loc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Na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2800"/>
                          <a:tab algn="l" pos="892080"/>
                          <a:tab algn="l" pos="1341360"/>
                          <a:tab algn="l" pos="1790640"/>
                          <a:tab algn="l" pos="2239920"/>
                          <a:tab algn="l" pos="2689200"/>
                          <a:tab algn="l" pos="3138480"/>
                          <a:tab algn="l" pos="3587760"/>
                          <a:tab algn="l" pos="4037040"/>
                          <a:tab algn="l" pos="4486320"/>
                          <a:tab algn="l" pos="4935600"/>
                          <a:tab algn="l" pos="5384880"/>
                          <a:tab algn="l" pos="5834160"/>
                          <a:tab algn="l" pos="6283440"/>
                          <a:tab algn="l" pos="6732720"/>
                          <a:tab algn="l" pos="7182000"/>
                          <a:tab algn="l" pos="7631280"/>
                          <a:tab algn="l" pos="8080200"/>
                          <a:tab algn="l" pos="8529480"/>
                          <a:tab algn="l" pos="8978760"/>
                          <a:tab algn="l" pos="8980560"/>
                          <a:tab algn="l" pos="9429840"/>
                          <a:tab algn="l" pos="9879120"/>
                          <a:tab algn="l" pos="10328400"/>
                          <a:tab algn="l" pos="10777680"/>
                          <a:tab algn="l" pos="10779120"/>
                          <a:tab algn="l" pos="1078056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mpa internazion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4d8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Valut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82440" indent="-82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a probabilità (P) e o l’Impatto (I) sono misurati come la media dei punteggi attribuiti a ciascun fatt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2440" indent="-82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’Indice di Rischio è dato dalla moltiplicazione del valore (medio) di probabilità con il valore (medio) di impatto: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IR = P x 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2440" indent="-82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 Processi sono così classificat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Bass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inferiore o uguale a 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5 e inferiore o uguale a 8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Medio/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9 e inferiore o uguale a 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"/>
              <a:tabLst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Rischio Alto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: punteggio maggiore o uguale a 15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2440" indent="-82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2440" indent="-82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82440"/>
                <a:tab algn="l" pos="530280"/>
                <a:tab algn="l" pos="979560"/>
                <a:tab algn="l" pos="1428840"/>
                <a:tab algn="l" pos="1878120"/>
                <a:tab algn="l" pos="2327400"/>
                <a:tab algn="l" pos="2776680"/>
                <a:tab algn="l" pos="3225960"/>
                <a:tab algn="l" pos="3675240"/>
                <a:tab algn="l" pos="4124160"/>
                <a:tab algn="l" pos="4573440"/>
                <a:tab algn="l" pos="5022720"/>
                <a:tab algn="l" pos="5472000"/>
                <a:tab algn="l" pos="5921280"/>
                <a:tab algn="l" pos="6370560"/>
                <a:tab algn="l" pos="6819840"/>
                <a:tab algn="l" pos="7269120"/>
                <a:tab algn="l" pos="7718400"/>
                <a:tab algn="l" pos="8167680"/>
                <a:tab algn="l" pos="8616960"/>
                <a:tab algn="l" pos="906624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Misurazione del rischi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Group 2"/>
          <p:cNvGrpSpPr/>
          <p:nvPr/>
        </p:nvGrpSpPr>
        <p:grpSpPr>
          <a:xfrm>
            <a:off x="884160" y="2170080"/>
            <a:ext cx="9129960" cy="3962520"/>
            <a:chOff x="884160" y="2170080"/>
            <a:chExt cx="9129960" cy="3962520"/>
          </a:xfrm>
        </p:grpSpPr>
        <p:sp>
          <p:nvSpPr>
            <p:cNvPr id="158" name="Rectangle 3"/>
            <p:cNvSpPr/>
            <p:nvPr/>
          </p:nvSpPr>
          <p:spPr>
            <a:xfrm>
              <a:off x="7469280" y="4863960"/>
              <a:ext cx="10792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Prob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5888160" y="4863960"/>
              <a:ext cx="17143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5"/>
            <p:cNvSpPr/>
            <p:nvPr/>
          </p:nvSpPr>
          <p:spPr>
            <a:xfrm>
              <a:off x="8790120" y="4863960"/>
              <a:ext cx="1162080" cy="4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Molto Prob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3522600" y="4826160"/>
              <a:ext cx="12812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Rar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1776240" y="4772160"/>
              <a:ext cx="1713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4830840" y="4863960"/>
              <a:ext cx="131292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000ff"/>
                  </a:solidFill>
                  <a:latin typeface="Univers 65 Bold"/>
                </a:rPr>
                <a:t>Bass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9"/>
            <p:cNvSpPr/>
            <p:nvPr/>
          </p:nvSpPr>
          <p:spPr>
            <a:xfrm>
              <a:off x="1749600" y="2495520"/>
              <a:ext cx="17110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Alt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0"/>
            <p:cNvSpPr/>
            <p:nvPr/>
          </p:nvSpPr>
          <p:spPr>
            <a:xfrm>
              <a:off x="1773360" y="2938320"/>
              <a:ext cx="1711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/alt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11"/>
            <p:cNvSpPr/>
            <p:nvPr/>
          </p:nvSpPr>
          <p:spPr>
            <a:xfrm>
              <a:off x="1749600" y="3355920"/>
              <a:ext cx="17618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Medio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12"/>
            <p:cNvSpPr/>
            <p:nvPr/>
          </p:nvSpPr>
          <p:spPr>
            <a:xfrm>
              <a:off x="1773360" y="3894120"/>
              <a:ext cx="171108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Basso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13"/>
            <p:cNvSpPr/>
            <p:nvPr/>
          </p:nvSpPr>
          <p:spPr>
            <a:xfrm>
              <a:off x="1838160" y="4325760"/>
              <a:ext cx="17114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300" spc="-1" strike="noStrike">
                  <a:solidFill>
                    <a:srgbClr val="0345e9"/>
                  </a:solidFill>
                  <a:latin typeface="Univers 65 Bold"/>
                </a:rPr>
                <a:t>Trascurabil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14"/>
            <p:cNvSpPr/>
            <p:nvPr/>
          </p:nvSpPr>
          <p:spPr>
            <a:xfrm>
              <a:off x="8704440" y="2413080"/>
              <a:ext cx="122076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e061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de06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2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15"/>
            <p:cNvSpPr/>
            <p:nvPr/>
          </p:nvSpPr>
          <p:spPr>
            <a:xfrm>
              <a:off x="7377120" y="2413080"/>
              <a:ext cx="131904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Alt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16"/>
            <p:cNvSpPr/>
            <p:nvPr/>
          </p:nvSpPr>
          <p:spPr>
            <a:xfrm>
              <a:off x="6045120" y="2413080"/>
              <a:ext cx="13255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17"/>
            <p:cNvSpPr/>
            <p:nvPr/>
          </p:nvSpPr>
          <p:spPr>
            <a:xfrm>
              <a:off x="5881680" y="2529000"/>
              <a:ext cx="1711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8"/>
            <p:cNvSpPr/>
            <p:nvPr/>
          </p:nvSpPr>
          <p:spPr>
            <a:xfrm>
              <a:off x="8704440" y="2881440"/>
              <a:ext cx="1220760" cy="45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9"/>
            <p:cNvSpPr/>
            <p:nvPr/>
          </p:nvSpPr>
          <p:spPr>
            <a:xfrm>
              <a:off x="7377120" y="2881440"/>
              <a:ext cx="1319040" cy="45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20"/>
            <p:cNvSpPr/>
            <p:nvPr/>
          </p:nvSpPr>
          <p:spPr>
            <a:xfrm>
              <a:off x="7540560" y="2951280"/>
              <a:ext cx="1008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21"/>
            <p:cNvSpPr/>
            <p:nvPr/>
          </p:nvSpPr>
          <p:spPr>
            <a:xfrm>
              <a:off x="6033960" y="2878200"/>
              <a:ext cx="13255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22"/>
            <p:cNvSpPr/>
            <p:nvPr/>
          </p:nvSpPr>
          <p:spPr>
            <a:xfrm>
              <a:off x="5881680" y="2944800"/>
              <a:ext cx="171144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3"/>
            <p:cNvSpPr/>
            <p:nvPr/>
          </p:nvSpPr>
          <p:spPr>
            <a:xfrm>
              <a:off x="8955000" y="2957400"/>
              <a:ext cx="716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4"/>
            <p:cNvSpPr/>
            <p:nvPr/>
          </p:nvSpPr>
          <p:spPr>
            <a:xfrm>
              <a:off x="8704440" y="3333600"/>
              <a:ext cx="122076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5"/>
            <p:cNvSpPr/>
            <p:nvPr/>
          </p:nvSpPr>
          <p:spPr>
            <a:xfrm>
              <a:off x="6045120" y="3333600"/>
              <a:ext cx="13255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26"/>
            <p:cNvSpPr/>
            <p:nvPr/>
          </p:nvSpPr>
          <p:spPr>
            <a:xfrm>
              <a:off x="5854680" y="3394080"/>
              <a:ext cx="1760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27"/>
            <p:cNvSpPr/>
            <p:nvPr/>
          </p:nvSpPr>
          <p:spPr>
            <a:xfrm>
              <a:off x="8832960" y="3409920"/>
              <a:ext cx="9792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28"/>
            <p:cNvSpPr/>
            <p:nvPr/>
          </p:nvSpPr>
          <p:spPr>
            <a:xfrm>
              <a:off x="8704440" y="3800520"/>
              <a:ext cx="1220760" cy="45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29"/>
            <p:cNvSpPr/>
            <p:nvPr/>
          </p:nvSpPr>
          <p:spPr>
            <a:xfrm>
              <a:off x="7377120" y="3800520"/>
              <a:ext cx="1319040" cy="45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30"/>
            <p:cNvSpPr/>
            <p:nvPr/>
          </p:nvSpPr>
          <p:spPr>
            <a:xfrm>
              <a:off x="6045120" y="3800520"/>
              <a:ext cx="1325520" cy="45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31"/>
            <p:cNvSpPr/>
            <p:nvPr/>
          </p:nvSpPr>
          <p:spPr>
            <a:xfrm>
              <a:off x="8832960" y="3879720"/>
              <a:ext cx="9792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32"/>
            <p:cNvSpPr/>
            <p:nvPr/>
          </p:nvSpPr>
          <p:spPr>
            <a:xfrm>
              <a:off x="8704440" y="4267080"/>
              <a:ext cx="122076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33"/>
            <p:cNvSpPr/>
            <p:nvPr/>
          </p:nvSpPr>
          <p:spPr>
            <a:xfrm>
              <a:off x="6045120" y="4267080"/>
              <a:ext cx="132552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000" spc="-1" strike="noStrike">
                  <a:solidFill>
                    <a:srgbClr val="000000"/>
                  </a:solidFill>
                  <a:latin typeface="Univers 55"/>
                </a:rPr>
                <a:t>Bass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34"/>
            <p:cNvSpPr/>
            <p:nvPr/>
          </p:nvSpPr>
          <p:spPr>
            <a:xfrm>
              <a:off x="3510000" y="2387520"/>
              <a:ext cx="1312920" cy="530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35"/>
            <p:cNvSpPr/>
            <p:nvPr/>
          </p:nvSpPr>
          <p:spPr>
            <a:xfrm>
              <a:off x="4811760" y="2403360"/>
              <a:ext cx="1219320" cy="463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-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36"/>
            <p:cNvSpPr/>
            <p:nvPr/>
          </p:nvSpPr>
          <p:spPr>
            <a:xfrm>
              <a:off x="4827600" y="2878200"/>
              <a:ext cx="12175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37"/>
            <p:cNvSpPr/>
            <p:nvPr/>
          </p:nvSpPr>
          <p:spPr>
            <a:xfrm>
              <a:off x="3497400" y="2874960"/>
              <a:ext cx="132084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38"/>
            <p:cNvSpPr/>
            <p:nvPr/>
          </p:nvSpPr>
          <p:spPr>
            <a:xfrm>
              <a:off x="3587760" y="2949480"/>
              <a:ext cx="11397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39"/>
            <p:cNvSpPr/>
            <p:nvPr/>
          </p:nvSpPr>
          <p:spPr>
            <a:xfrm>
              <a:off x="3492360" y="3340080"/>
              <a:ext cx="1317600" cy="458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40"/>
            <p:cNvSpPr/>
            <p:nvPr/>
          </p:nvSpPr>
          <p:spPr>
            <a:xfrm>
              <a:off x="4818240" y="3809880"/>
              <a:ext cx="122076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41"/>
            <p:cNvSpPr/>
            <p:nvPr/>
          </p:nvSpPr>
          <p:spPr>
            <a:xfrm>
              <a:off x="3492360" y="3809880"/>
              <a:ext cx="1317600" cy="459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42"/>
            <p:cNvSpPr/>
            <p:nvPr/>
          </p:nvSpPr>
          <p:spPr>
            <a:xfrm>
              <a:off x="5114880" y="3886200"/>
              <a:ext cx="7002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43"/>
            <p:cNvSpPr/>
            <p:nvPr/>
          </p:nvSpPr>
          <p:spPr>
            <a:xfrm>
              <a:off x="4818240" y="4272120"/>
              <a:ext cx="122076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44"/>
            <p:cNvSpPr/>
            <p:nvPr/>
          </p:nvSpPr>
          <p:spPr>
            <a:xfrm>
              <a:off x="3492360" y="4272120"/>
              <a:ext cx="131760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4e67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45"/>
            <p:cNvSpPr/>
            <p:nvPr/>
          </p:nvSpPr>
          <p:spPr>
            <a:xfrm>
              <a:off x="4889520" y="4341960"/>
              <a:ext cx="112536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46"/>
            <p:cNvSpPr/>
            <p:nvPr/>
          </p:nvSpPr>
          <p:spPr>
            <a:xfrm>
              <a:off x="7381800" y="3367080"/>
              <a:ext cx="1312920" cy="41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Medio Al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47"/>
            <p:cNvSpPr/>
            <p:nvPr/>
          </p:nvSpPr>
          <p:spPr>
            <a:xfrm>
              <a:off x="4829040" y="3340080"/>
              <a:ext cx="121788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99"/>
                  </a:solidFill>
                  <a:latin typeface="Univers 55"/>
                </a:rPr>
                <a:t>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48"/>
            <p:cNvSpPr/>
            <p:nvPr/>
          </p:nvSpPr>
          <p:spPr>
            <a:xfrm>
              <a:off x="3768840" y="3421080"/>
              <a:ext cx="6984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49"/>
            <p:cNvSpPr/>
            <p:nvPr/>
          </p:nvSpPr>
          <p:spPr>
            <a:xfrm>
              <a:off x="3598920" y="4336920"/>
              <a:ext cx="11412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50"/>
            <p:cNvSpPr/>
            <p:nvPr/>
          </p:nvSpPr>
          <p:spPr>
            <a:xfrm>
              <a:off x="3598920" y="3894120"/>
              <a:ext cx="112860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i="1" lang="it-IT" sz="1100" spc="-1" strike="noStrike">
                  <a:solidFill>
                    <a:srgbClr val="000000"/>
                  </a:solidFill>
                  <a:latin typeface="Univers 65 Bold"/>
                </a:rPr>
                <a:t>Bass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51"/>
            <p:cNvSpPr/>
            <p:nvPr/>
          </p:nvSpPr>
          <p:spPr>
            <a:xfrm>
              <a:off x="4259160" y="5432400"/>
              <a:ext cx="377532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Probabilità    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 a 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52"/>
            <p:cNvSpPr/>
            <p:nvPr/>
          </p:nvSpPr>
          <p:spPr>
            <a:xfrm rot="16200000">
              <a:off x="-210960" y="3265200"/>
              <a:ext cx="27986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Impatto </a:t>
              </a:r>
              <a:br>
                <a:rPr sz="2000"/>
              </a:br>
              <a:r>
                <a:rPr b="0" lang="it-IT" sz="2000" spc="-1" strike="noStrike">
                  <a:solidFill>
                    <a:srgbClr val="404040"/>
                  </a:solidFill>
                  <a:latin typeface="Calibri Light"/>
                </a:rPr>
                <a:t>Scala da 1a 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53"/>
            <p:cNvSpPr/>
            <p:nvPr/>
          </p:nvSpPr>
          <p:spPr>
            <a:xfrm>
              <a:off x="3510000" y="2387520"/>
              <a:ext cx="0" cy="236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54"/>
            <p:cNvSpPr/>
            <p:nvPr/>
          </p:nvSpPr>
          <p:spPr>
            <a:xfrm>
              <a:off x="4567320" y="4325760"/>
              <a:ext cx="342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55"/>
            <p:cNvSpPr/>
            <p:nvPr/>
          </p:nvSpPr>
          <p:spPr>
            <a:xfrm>
              <a:off x="4567320" y="3832200"/>
              <a:ext cx="342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56"/>
            <p:cNvSpPr/>
            <p:nvPr/>
          </p:nvSpPr>
          <p:spPr>
            <a:xfrm>
              <a:off x="4567320" y="3398760"/>
              <a:ext cx="342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57"/>
            <p:cNvSpPr/>
            <p:nvPr/>
          </p:nvSpPr>
          <p:spPr>
            <a:xfrm>
              <a:off x="4567320" y="2927520"/>
              <a:ext cx="342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58"/>
            <p:cNvSpPr/>
            <p:nvPr/>
          </p:nvSpPr>
          <p:spPr>
            <a:xfrm>
              <a:off x="4567320" y="2430360"/>
              <a:ext cx="342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59"/>
            <p:cNvSpPr/>
            <p:nvPr/>
          </p:nvSpPr>
          <p:spPr>
            <a:xfrm>
              <a:off x="5797440" y="432576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60"/>
            <p:cNvSpPr/>
            <p:nvPr/>
          </p:nvSpPr>
          <p:spPr>
            <a:xfrm>
              <a:off x="7118280" y="42829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61"/>
            <p:cNvSpPr/>
            <p:nvPr/>
          </p:nvSpPr>
          <p:spPr>
            <a:xfrm>
              <a:off x="9671040" y="42829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62"/>
            <p:cNvSpPr/>
            <p:nvPr/>
          </p:nvSpPr>
          <p:spPr>
            <a:xfrm>
              <a:off x="9671040" y="33559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63"/>
            <p:cNvSpPr/>
            <p:nvPr/>
          </p:nvSpPr>
          <p:spPr>
            <a:xfrm>
              <a:off x="9671040" y="38527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64"/>
            <p:cNvSpPr/>
            <p:nvPr/>
          </p:nvSpPr>
          <p:spPr>
            <a:xfrm>
              <a:off x="9671040" y="28843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65"/>
            <p:cNvSpPr/>
            <p:nvPr/>
          </p:nvSpPr>
          <p:spPr>
            <a:xfrm>
              <a:off x="9671040" y="23875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66"/>
            <p:cNvSpPr/>
            <p:nvPr/>
          </p:nvSpPr>
          <p:spPr>
            <a:xfrm>
              <a:off x="8439120" y="23875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67"/>
            <p:cNvSpPr/>
            <p:nvPr/>
          </p:nvSpPr>
          <p:spPr>
            <a:xfrm>
              <a:off x="8439120" y="28843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68"/>
            <p:cNvSpPr/>
            <p:nvPr/>
          </p:nvSpPr>
          <p:spPr>
            <a:xfrm>
              <a:off x="8439120" y="33559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69"/>
            <p:cNvSpPr/>
            <p:nvPr/>
          </p:nvSpPr>
          <p:spPr>
            <a:xfrm>
              <a:off x="8439120" y="378936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70"/>
            <p:cNvSpPr/>
            <p:nvPr/>
          </p:nvSpPr>
          <p:spPr>
            <a:xfrm>
              <a:off x="7118280" y="378936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71"/>
            <p:cNvSpPr/>
            <p:nvPr/>
          </p:nvSpPr>
          <p:spPr>
            <a:xfrm>
              <a:off x="7118280" y="33559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72"/>
            <p:cNvSpPr/>
            <p:nvPr/>
          </p:nvSpPr>
          <p:spPr>
            <a:xfrm>
              <a:off x="7118280" y="28843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73"/>
            <p:cNvSpPr/>
            <p:nvPr/>
          </p:nvSpPr>
          <p:spPr>
            <a:xfrm>
              <a:off x="5797440" y="292752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74"/>
            <p:cNvSpPr/>
            <p:nvPr/>
          </p:nvSpPr>
          <p:spPr>
            <a:xfrm>
              <a:off x="5797440" y="339876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75"/>
            <p:cNvSpPr/>
            <p:nvPr/>
          </p:nvSpPr>
          <p:spPr>
            <a:xfrm>
              <a:off x="5711760" y="243036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76"/>
            <p:cNvSpPr/>
            <p:nvPr/>
          </p:nvSpPr>
          <p:spPr>
            <a:xfrm>
              <a:off x="7118280" y="243036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65 Bold"/>
                </a:rPr>
                <a:t>1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77"/>
            <p:cNvSpPr/>
            <p:nvPr/>
          </p:nvSpPr>
          <p:spPr>
            <a:xfrm>
              <a:off x="5797440" y="383220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78"/>
            <p:cNvSpPr/>
            <p:nvPr/>
          </p:nvSpPr>
          <p:spPr>
            <a:xfrm>
              <a:off x="7381800" y="4278240"/>
              <a:ext cx="1312920" cy="469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Univers 55"/>
                </a:rPr>
                <a:t>Medi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79"/>
            <p:cNvSpPr/>
            <p:nvPr/>
          </p:nvSpPr>
          <p:spPr>
            <a:xfrm>
              <a:off x="8439120" y="4325760"/>
              <a:ext cx="34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2800"/>
                  <a:tab algn="l" pos="892080"/>
                  <a:tab algn="l" pos="1341360"/>
                  <a:tab algn="l" pos="1790640"/>
                  <a:tab algn="l" pos="2239920"/>
                  <a:tab algn="l" pos="2689200"/>
                  <a:tab algn="l" pos="3138480"/>
                  <a:tab algn="l" pos="3587760"/>
                  <a:tab algn="l" pos="4037040"/>
                  <a:tab algn="l" pos="4486320"/>
                  <a:tab algn="l" pos="4935600"/>
                  <a:tab algn="l" pos="5384880"/>
                  <a:tab algn="l" pos="5834160"/>
                  <a:tab algn="l" pos="6283440"/>
                  <a:tab algn="l" pos="6732720"/>
                  <a:tab algn="l" pos="7182000"/>
                  <a:tab algn="l" pos="7631280"/>
                  <a:tab algn="l" pos="8080200"/>
                  <a:tab algn="l" pos="8529480"/>
                  <a:tab algn="l" pos="8978760"/>
                  <a:tab algn="l" pos="8980560"/>
                  <a:tab algn="l" pos="9429840"/>
                  <a:tab algn="l" pos="9879120"/>
                  <a:tab algn="l" pos="1032840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1" i="1" lang="it-IT" sz="1000" spc="-1" strike="noStrike">
                  <a:solidFill>
                    <a:srgbClr val="000000"/>
                  </a:solidFill>
                  <a:latin typeface="Univers 65 Bold"/>
                </a:rPr>
                <a:t>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80"/>
            <p:cNvSpPr/>
            <p:nvPr/>
          </p:nvSpPr>
          <p:spPr>
            <a:xfrm>
              <a:off x="3510000" y="4756320"/>
              <a:ext cx="6415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6" name="Picture 81" descr=""/>
          <p:cNvPicPr/>
          <p:nvPr/>
        </p:nvPicPr>
        <p:blipFill>
          <a:blip r:embed="rId1"/>
          <a:stretch/>
        </p:blipFill>
        <p:spPr>
          <a:xfrm>
            <a:off x="4457880" y="1397160"/>
            <a:ext cx="3263760" cy="406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3T15:31:24Z</dcterms:created>
  <dc:creator>Ugo Porcu</dc:creator>
  <dc:description/>
  <dc:language>en-US</dc:language>
  <cp:lastModifiedBy>Eleonora Floris</cp:lastModifiedBy>
  <dcterms:modified xsi:type="dcterms:W3CDTF">2025-01-31T11:15:23Z</dcterms:modified>
  <cp:revision>143</cp:revision>
  <dc:subject/>
  <dc:title>Presentazione standard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1</vt:r8>
  </property>
  <property fmtid="{D5CDD505-2E9C-101B-9397-08002B2CF9AE}" pid="7" name="PresentationFormat">
    <vt:lpwstr>Widescreen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6</vt:r8>
  </property>
</Properties>
</file>