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35E25B48-0E66-4CF2-A426-EC0456FA6A7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ED45FE1F-B39A-45C9-936B-BFC0D689CF2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42C7C340-E309-4931-B13A-DE61644D81A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AC67827F-ADC4-410B-9322-A0A2F9629A9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520AD629-B910-4A3C-8E2D-929993DA6A0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20C90557-B76F-4A89-89E0-F5253A0A20E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8BF01371-F18F-4EAC-99EF-F7F8B8E93BB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A5FE3E33-DA72-4653-978A-B3EA8C32671E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74AB-B795-411B-9968-7DEEC02F78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67848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6303-842B-48F9-A502-B9D4DB20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836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062E-7D85-4F85-8189-64392820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676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476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676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476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C7C0E-0411-485E-8A0A-E651CB8629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9DAB4-E6A2-4405-91CC-118A6AA53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56640-8159-44D0-84D9-E265A289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A4C85-FDDF-4D2C-A0B7-AC8F6595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6DA58-D031-4386-B723-18AA943C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8D75F-7A61-4494-8B8F-41BC2127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04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95047-423F-4B43-82D0-356E7415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AC326-2930-4F48-B25C-FED7CA37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0342-154D-4666-899C-01F75569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2836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DAAAF-9B20-43A9-84B0-203BD577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DA8C8-9813-480E-9295-86817EC6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120" y="367848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0C567-6CEC-41C9-B7E0-9292A309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2836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10C45-3FF7-44DC-99C7-891CF23B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1676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2476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12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1676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2476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0646A-0C0D-4EF2-827E-686A78D943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F5ED-10DB-4637-94A4-E4F8CB89C4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E7BA-A02B-484A-BE87-8B180F12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22F5-96E7-4628-A70A-49F8EC17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AB67-B893-433D-8BE3-F16892A5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8120-B0EA-4EF3-BC64-B2A62B1D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2652D-1E01-463F-B580-F1480BEF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04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80D8-FBA6-431E-9C75-8B05AD69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C6CE-E524-4DC2-8EE5-4BEE2B88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2836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D313-F6D4-4E24-9314-37B57C6F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54B9-972B-453A-86B3-8B2ECA74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120" y="367848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63F5-135C-4B4B-8C29-446A4BB4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2836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0DE0-32C3-4405-A6EF-5963B14D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1676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02476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12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1676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02476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00D9-08F7-476C-9B63-0570ED14BA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440B-D00B-4F73-93C8-596EF1DE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2A41-0C67-4FCE-A578-464BE843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04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F0B8C-909B-4891-B6B0-4D85549E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DE19-89CB-45C4-85D2-4D9192FC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2836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393C-920D-4227-BE06-41CC3852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6A314-9470-44DC-BDC3-649BAF9E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 hidden="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 hidden="1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208160" y="4343400"/>
            <a:ext cx="987588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04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652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1/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9900720" y="6459480"/>
            <a:ext cx="13035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F7D5A2E4-E0A6-4672-9E0C-95AEB91B3178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648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048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1096920" y="6459480"/>
            <a:ext cx="24652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9900720" y="6459480"/>
            <a:ext cx="13035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468B4C8A-A7EB-4D7C-8C43-32C154CB22E8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1096920" y="6459480"/>
            <a:ext cx="24652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035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281DCCB0-4B93-46FA-A848-068A3ED63069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alibri Light"/>
              </a:rPr>
              <a:t>Misurazione del Rischio – Allegato 2PTPCT 2025-2027- Sezione Anticorruzione e Trasparenza PIAO  ASL SULCISIGLESI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0080"/>
                <a:tab algn="l" pos="549360"/>
                <a:tab algn="l" pos="998640"/>
                <a:tab algn="l" pos="1447920"/>
                <a:tab algn="l" pos="1897200"/>
                <a:tab algn="l" pos="2346480"/>
                <a:tab algn="l" pos="2795760"/>
                <a:tab algn="l" pos="3244680"/>
                <a:tab algn="l" pos="3693960"/>
                <a:tab algn="l" pos="4143240"/>
                <a:tab algn="l" pos="4592520"/>
                <a:tab algn="l" pos="5041800"/>
                <a:tab algn="l" pos="5491080"/>
                <a:tab algn="l" pos="5943600"/>
                <a:tab algn="l" pos="6389640"/>
                <a:tab algn="l" pos="6838920"/>
                <a:tab algn="l" pos="7288200"/>
                <a:tab algn="l" pos="7737480"/>
                <a:tab algn="l" pos="8186760"/>
                <a:tab algn="l" pos="863604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400" spc="-1" strike="noStrike">
                <a:solidFill>
                  <a:srgbClr val="637052"/>
                </a:solidFill>
                <a:latin typeface="Calibri Light"/>
              </a:rPr>
              <a:t>METODOLOGIA E INDICATOR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0080"/>
                <a:tab algn="l" pos="549360"/>
                <a:tab algn="l" pos="998640"/>
                <a:tab algn="l" pos="1447920"/>
                <a:tab algn="l" pos="1897200"/>
                <a:tab algn="l" pos="2346480"/>
                <a:tab algn="l" pos="2795760"/>
                <a:tab algn="l" pos="3244680"/>
                <a:tab algn="l" pos="3693960"/>
                <a:tab algn="l" pos="4143240"/>
                <a:tab algn="l" pos="4592520"/>
                <a:tab algn="l" pos="5041800"/>
                <a:tab algn="l" pos="5491080"/>
                <a:tab algn="l" pos="5943600"/>
                <a:tab algn="l" pos="6389640"/>
                <a:tab algn="l" pos="6838920"/>
                <a:tab algn="l" pos="7288200"/>
                <a:tab algn="l" pos="7737480"/>
                <a:tab algn="l" pos="8186760"/>
                <a:tab algn="l" pos="863604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l presente documento illustra sinteticamente la metodologia adottata per la misurazione del risch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misurazione del rischio prevede l’attribuzione di un valore alle due variabili caratterizzanti il rischio stess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Probabilità che l’evento accada (P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atto che tale evento genera (I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’interazione delle singole variabili consente di definire il livello di rischio del singolo proces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er ogni variabile sono stati individuati i fattori di valutazi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obabilità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73120" y="1670040"/>
          <a:ext cx="11183760" cy="4592520"/>
        </p:xfrm>
        <a:graphic>
          <a:graphicData uri="http://schemas.openxmlformats.org/drawingml/2006/table">
            <a:tbl>
              <a:tblPr/>
              <a:tblGrid>
                <a:gridCol w="3016080"/>
                <a:gridCol w="1554480"/>
                <a:gridCol w="1595160"/>
                <a:gridCol w="1716120"/>
                <a:gridCol w="1820880"/>
                <a:gridCol w="1481040"/>
              </a:tblGrid>
              <a:tr h="84600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c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t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amente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ndice di Discrezionalità de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col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dalla legge e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lla leg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amente discre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decentralizzazione (UP, filiale, reg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à opera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manualità (vs automaz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Manu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Efficacia dei controlli, per la neutralizzazione dei rischi, sulla base della esperienza pregre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un efficace strumento per neutralizzare i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olto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edi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inim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non incide sul rischi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Rilevanza Esterna: il processo ha come destinatari uffici interni alla ATS o utenti e  ester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non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media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elevata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Impatto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87400" y="1819440"/>
          <a:ext cx="10593360" cy="3612960"/>
        </p:xfrm>
        <a:graphic>
          <a:graphicData uri="http://schemas.openxmlformats.org/drawingml/2006/table">
            <a:tbl>
              <a:tblPr/>
              <a:tblGrid>
                <a:gridCol w="2770200"/>
                <a:gridCol w="1763640"/>
                <a:gridCol w="1774800"/>
                <a:gridCol w="1486080"/>
                <a:gridCol w="1495440"/>
                <a:gridCol w="1303200"/>
              </a:tblGrid>
              <a:tr h="52848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ascurab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/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tto Economico: Sono state  pronunciate sentenze delle Corte conti o sentenze di risarcimento danno o comminate sanzio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umerosità di persone coinvol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3 -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6 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11 -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ltre 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mpatto economico potenzi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riore a 1.000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.001 euro e 1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0.001 euro e 5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50.001 euro e 10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tre 100.001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collocazione de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t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arico di organizz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U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UO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ono stati pubblicati su riviste giornali articoli aventi ad oggetto i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ricor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loc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inter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Valut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82440" indent="-82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 probabilità (P) e o l’Impatto (I) sono misurati come la media dei punteggi attribuiti a ciascun fatt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’Indice di Rischio è dato dalla moltiplicazione del valore (medio) di probabilità con il valore (medio) di impatto: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R = P x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 Processi sono così classificat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Bass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inferiore o uguale a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5 e inferiore o uguale a 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/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9 e inferiore o uguale a 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1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isur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2"/>
          <p:cNvGrpSpPr/>
          <p:nvPr/>
        </p:nvGrpSpPr>
        <p:grpSpPr>
          <a:xfrm>
            <a:off x="884160" y="2170080"/>
            <a:ext cx="9129960" cy="3962520"/>
            <a:chOff x="884160" y="2170080"/>
            <a:chExt cx="9129960" cy="3962520"/>
          </a:xfrm>
        </p:grpSpPr>
        <p:sp>
          <p:nvSpPr>
            <p:cNvPr id="158" name="Rectangle 3"/>
            <p:cNvSpPr/>
            <p:nvPr/>
          </p:nvSpPr>
          <p:spPr>
            <a:xfrm>
              <a:off x="7469280" y="4863960"/>
              <a:ext cx="10792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5888160" y="4863960"/>
              <a:ext cx="171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"/>
            <p:cNvSpPr/>
            <p:nvPr/>
          </p:nvSpPr>
          <p:spPr>
            <a:xfrm>
              <a:off x="8790120" y="4863960"/>
              <a:ext cx="11620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Molto 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3522600" y="4826160"/>
              <a:ext cx="12812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Rar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1776240" y="4772160"/>
              <a:ext cx="171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4830840" y="4863960"/>
              <a:ext cx="1312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Bass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1749600" y="2495520"/>
              <a:ext cx="17110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1773360" y="2938320"/>
              <a:ext cx="1711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/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749600" y="3355920"/>
              <a:ext cx="1761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1773360" y="3894120"/>
              <a:ext cx="1711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Basso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1838160" y="4325760"/>
              <a:ext cx="171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Trascur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14"/>
            <p:cNvSpPr/>
            <p:nvPr/>
          </p:nvSpPr>
          <p:spPr>
            <a:xfrm>
              <a:off x="8704440" y="2413080"/>
              <a:ext cx="12207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061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06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5"/>
            <p:cNvSpPr/>
            <p:nvPr/>
          </p:nvSpPr>
          <p:spPr>
            <a:xfrm>
              <a:off x="7377120" y="2413080"/>
              <a:ext cx="13190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6045120" y="2413080"/>
              <a:ext cx="13255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7"/>
            <p:cNvSpPr/>
            <p:nvPr/>
          </p:nvSpPr>
          <p:spPr>
            <a:xfrm>
              <a:off x="5881680" y="2529000"/>
              <a:ext cx="1711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8"/>
            <p:cNvSpPr/>
            <p:nvPr/>
          </p:nvSpPr>
          <p:spPr>
            <a:xfrm>
              <a:off x="8704440" y="2881440"/>
              <a:ext cx="1220760" cy="45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9"/>
            <p:cNvSpPr/>
            <p:nvPr/>
          </p:nvSpPr>
          <p:spPr>
            <a:xfrm>
              <a:off x="7377120" y="2881440"/>
              <a:ext cx="1319040" cy="45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20"/>
            <p:cNvSpPr/>
            <p:nvPr/>
          </p:nvSpPr>
          <p:spPr>
            <a:xfrm>
              <a:off x="7540560" y="2951280"/>
              <a:ext cx="1008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21"/>
            <p:cNvSpPr/>
            <p:nvPr/>
          </p:nvSpPr>
          <p:spPr>
            <a:xfrm>
              <a:off x="6033960" y="2878200"/>
              <a:ext cx="13255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2"/>
            <p:cNvSpPr/>
            <p:nvPr/>
          </p:nvSpPr>
          <p:spPr>
            <a:xfrm>
              <a:off x="5881680" y="2944800"/>
              <a:ext cx="1711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3"/>
            <p:cNvSpPr/>
            <p:nvPr/>
          </p:nvSpPr>
          <p:spPr>
            <a:xfrm>
              <a:off x="8955000" y="2957400"/>
              <a:ext cx="716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4"/>
            <p:cNvSpPr/>
            <p:nvPr/>
          </p:nvSpPr>
          <p:spPr>
            <a:xfrm>
              <a:off x="8704440" y="3333600"/>
              <a:ext cx="12207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5"/>
            <p:cNvSpPr/>
            <p:nvPr/>
          </p:nvSpPr>
          <p:spPr>
            <a:xfrm>
              <a:off x="6045120" y="3333600"/>
              <a:ext cx="13255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26"/>
            <p:cNvSpPr/>
            <p:nvPr/>
          </p:nvSpPr>
          <p:spPr>
            <a:xfrm>
              <a:off x="5854680" y="3394080"/>
              <a:ext cx="1760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27"/>
            <p:cNvSpPr/>
            <p:nvPr/>
          </p:nvSpPr>
          <p:spPr>
            <a:xfrm>
              <a:off x="8832960" y="3409920"/>
              <a:ext cx="9792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8"/>
            <p:cNvSpPr/>
            <p:nvPr/>
          </p:nvSpPr>
          <p:spPr>
            <a:xfrm>
              <a:off x="8704440" y="3800520"/>
              <a:ext cx="1220760" cy="45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29"/>
            <p:cNvSpPr/>
            <p:nvPr/>
          </p:nvSpPr>
          <p:spPr>
            <a:xfrm>
              <a:off x="7377120" y="3800520"/>
              <a:ext cx="1319040" cy="45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30"/>
            <p:cNvSpPr/>
            <p:nvPr/>
          </p:nvSpPr>
          <p:spPr>
            <a:xfrm>
              <a:off x="6045120" y="3800520"/>
              <a:ext cx="1325520" cy="45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31"/>
            <p:cNvSpPr/>
            <p:nvPr/>
          </p:nvSpPr>
          <p:spPr>
            <a:xfrm>
              <a:off x="8832960" y="3879720"/>
              <a:ext cx="9792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32"/>
            <p:cNvSpPr/>
            <p:nvPr/>
          </p:nvSpPr>
          <p:spPr>
            <a:xfrm>
              <a:off x="8704440" y="4267080"/>
              <a:ext cx="12207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3"/>
            <p:cNvSpPr/>
            <p:nvPr/>
          </p:nvSpPr>
          <p:spPr>
            <a:xfrm>
              <a:off x="6045120" y="4267080"/>
              <a:ext cx="132552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Bass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34"/>
            <p:cNvSpPr/>
            <p:nvPr/>
          </p:nvSpPr>
          <p:spPr>
            <a:xfrm>
              <a:off x="3510000" y="2387520"/>
              <a:ext cx="1312920" cy="530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5"/>
            <p:cNvSpPr/>
            <p:nvPr/>
          </p:nvSpPr>
          <p:spPr>
            <a:xfrm>
              <a:off x="4811760" y="2403360"/>
              <a:ext cx="121932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-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36"/>
            <p:cNvSpPr/>
            <p:nvPr/>
          </p:nvSpPr>
          <p:spPr>
            <a:xfrm>
              <a:off x="4827600" y="2878200"/>
              <a:ext cx="12175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37"/>
            <p:cNvSpPr/>
            <p:nvPr/>
          </p:nvSpPr>
          <p:spPr>
            <a:xfrm>
              <a:off x="3497400" y="2874960"/>
              <a:ext cx="13208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38"/>
            <p:cNvSpPr/>
            <p:nvPr/>
          </p:nvSpPr>
          <p:spPr>
            <a:xfrm>
              <a:off x="3587760" y="2949480"/>
              <a:ext cx="11397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39"/>
            <p:cNvSpPr/>
            <p:nvPr/>
          </p:nvSpPr>
          <p:spPr>
            <a:xfrm>
              <a:off x="3492360" y="3340080"/>
              <a:ext cx="1317600" cy="45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40"/>
            <p:cNvSpPr/>
            <p:nvPr/>
          </p:nvSpPr>
          <p:spPr>
            <a:xfrm>
              <a:off x="4818240" y="3809880"/>
              <a:ext cx="122076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41"/>
            <p:cNvSpPr/>
            <p:nvPr/>
          </p:nvSpPr>
          <p:spPr>
            <a:xfrm>
              <a:off x="3492360" y="3809880"/>
              <a:ext cx="131760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42"/>
            <p:cNvSpPr/>
            <p:nvPr/>
          </p:nvSpPr>
          <p:spPr>
            <a:xfrm>
              <a:off x="5114880" y="3886200"/>
              <a:ext cx="7002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43"/>
            <p:cNvSpPr/>
            <p:nvPr/>
          </p:nvSpPr>
          <p:spPr>
            <a:xfrm>
              <a:off x="4818240" y="4272120"/>
              <a:ext cx="12207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44"/>
            <p:cNvSpPr/>
            <p:nvPr/>
          </p:nvSpPr>
          <p:spPr>
            <a:xfrm>
              <a:off x="3492360" y="4272120"/>
              <a:ext cx="13176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45"/>
            <p:cNvSpPr/>
            <p:nvPr/>
          </p:nvSpPr>
          <p:spPr>
            <a:xfrm>
              <a:off x="4889520" y="4341960"/>
              <a:ext cx="11253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46"/>
            <p:cNvSpPr/>
            <p:nvPr/>
          </p:nvSpPr>
          <p:spPr>
            <a:xfrm>
              <a:off x="7381800" y="3367080"/>
              <a:ext cx="1312920" cy="41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47"/>
            <p:cNvSpPr/>
            <p:nvPr/>
          </p:nvSpPr>
          <p:spPr>
            <a:xfrm>
              <a:off x="4829040" y="3340080"/>
              <a:ext cx="121788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48"/>
            <p:cNvSpPr/>
            <p:nvPr/>
          </p:nvSpPr>
          <p:spPr>
            <a:xfrm>
              <a:off x="3768840" y="3421080"/>
              <a:ext cx="698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49"/>
            <p:cNvSpPr/>
            <p:nvPr/>
          </p:nvSpPr>
          <p:spPr>
            <a:xfrm>
              <a:off x="3598920" y="4336920"/>
              <a:ext cx="11412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50"/>
            <p:cNvSpPr/>
            <p:nvPr/>
          </p:nvSpPr>
          <p:spPr>
            <a:xfrm>
              <a:off x="3598920" y="3894120"/>
              <a:ext cx="11286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51"/>
            <p:cNvSpPr/>
            <p:nvPr/>
          </p:nvSpPr>
          <p:spPr>
            <a:xfrm>
              <a:off x="4259160" y="5432400"/>
              <a:ext cx="37753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Probabilità    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 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52"/>
            <p:cNvSpPr/>
            <p:nvPr/>
          </p:nvSpPr>
          <p:spPr>
            <a:xfrm rot="16200000">
              <a:off x="-210960" y="3265200"/>
              <a:ext cx="27986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Impatto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3"/>
            <p:cNvSpPr/>
            <p:nvPr/>
          </p:nvSpPr>
          <p:spPr>
            <a:xfrm>
              <a:off x="3510000" y="2387520"/>
              <a:ext cx="0" cy="236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54"/>
            <p:cNvSpPr/>
            <p:nvPr/>
          </p:nvSpPr>
          <p:spPr>
            <a:xfrm>
              <a:off x="4567320" y="4325760"/>
              <a:ext cx="34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55"/>
            <p:cNvSpPr/>
            <p:nvPr/>
          </p:nvSpPr>
          <p:spPr>
            <a:xfrm>
              <a:off x="4567320" y="3832200"/>
              <a:ext cx="34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56"/>
            <p:cNvSpPr/>
            <p:nvPr/>
          </p:nvSpPr>
          <p:spPr>
            <a:xfrm>
              <a:off x="4567320" y="3398760"/>
              <a:ext cx="34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57"/>
            <p:cNvSpPr/>
            <p:nvPr/>
          </p:nvSpPr>
          <p:spPr>
            <a:xfrm>
              <a:off x="4567320" y="2927520"/>
              <a:ext cx="34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58"/>
            <p:cNvSpPr/>
            <p:nvPr/>
          </p:nvSpPr>
          <p:spPr>
            <a:xfrm>
              <a:off x="4567320" y="2430360"/>
              <a:ext cx="34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9"/>
            <p:cNvSpPr/>
            <p:nvPr/>
          </p:nvSpPr>
          <p:spPr>
            <a:xfrm>
              <a:off x="5797440" y="43257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60"/>
            <p:cNvSpPr/>
            <p:nvPr/>
          </p:nvSpPr>
          <p:spPr>
            <a:xfrm>
              <a:off x="7118280" y="42829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61"/>
            <p:cNvSpPr/>
            <p:nvPr/>
          </p:nvSpPr>
          <p:spPr>
            <a:xfrm>
              <a:off x="9671040" y="42829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2"/>
            <p:cNvSpPr/>
            <p:nvPr/>
          </p:nvSpPr>
          <p:spPr>
            <a:xfrm>
              <a:off x="9671040" y="33559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63"/>
            <p:cNvSpPr/>
            <p:nvPr/>
          </p:nvSpPr>
          <p:spPr>
            <a:xfrm>
              <a:off x="9671040" y="38527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64"/>
            <p:cNvSpPr/>
            <p:nvPr/>
          </p:nvSpPr>
          <p:spPr>
            <a:xfrm>
              <a:off x="9671040" y="28843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65"/>
            <p:cNvSpPr/>
            <p:nvPr/>
          </p:nvSpPr>
          <p:spPr>
            <a:xfrm>
              <a:off x="9671040" y="23875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66"/>
            <p:cNvSpPr/>
            <p:nvPr/>
          </p:nvSpPr>
          <p:spPr>
            <a:xfrm>
              <a:off x="8439120" y="23875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7"/>
            <p:cNvSpPr/>
            <p:nvPr/>
          </p:nvSpPr>
          <p:spPr>
            <a:xfrm>
              <a:off x="8439120" y="28843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68"/>
            <p:cNvSpPr/>
            <p:nvPr/>
          </p:nvSpPr>
          <p:spPr>
            <a:xfrm>
              <a:off x="8439120" y="33559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69"/>
            <p:cNvSpPr/>
            <p:nvPr/>
          </p:nvSpPr>
          <p:spPr>
            <a:xfrm>
              <a:off x="8439120" y="37893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70"/>
            <p:cNvSpPr/>
            <p:nvPr/>
          </p:nvSpPr>
          <p:spPr>
            <a:xfrm>
              <a:off x="7118280" y="37893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71"/>
            <p:cNvSpPr/>
            <p:nvPr/>
          </p:nvSpPr>
          <p:spPr>
            <a:xfrm>
              <a:off x="7118280" y="33559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72"/>
            <p:cNvSpPr/>
            <p:nvPr/>
          </p:nvSpPr>
          <p:spPr>
            <a:xfrm>
              <a:off x="7118280" y="28843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73"/>
            <p:cNvSpPr/>
            <p:nvPr/>
          </p:nvSpPr>
          <p:spPr>
            <a:xfrm>
              <a:off x="5797440" y="29275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74"/>
            <p:cNvSpPr/>
            <p:nvPr/>
          </p:nvSpPr>
          <p:spPr>
            <a:xfrm>
              <a:off x="5797440" y="33987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75"/>
            <p:cNvSpPr/>
            <p:nvPr/>
          </p:nvSpPr>
          <p:spPr>
            <a:xfrm>
              <a:off x="5711760" y="24303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76"/>
            <p:cNvSpPr/>
            <p:nvPr/>
          </p:nvSpPr>
          <p:spPr>
            <a:xfrm>
              <a:off x="7118280" y="24303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77"/>
            <p:cNvSpPr/>
            <p:nvPr/>
          </p:nvSpPr>
          <p:spPr>
            <a:xfrm>
              <a:off x="5797440" y="383220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78"/>
            <p:cNvSpPr/>
            <p:nvPr/>
          </p:nvSpPr>
          <p:spPr>
            <a:xfrm>
              <a:off x="7381800" y="4278240"/>
              <a:ext cx="1312920" cy="469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79"/>
            <p:cNvSpPr/>
            <p:nvPr/>
          </p:nvSpPr>
          <p:spPr>
            <a:xfrm>
              <a:off x="8439120" y="43257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80"/>
            <p:cNvSpPr/>
            <p:nvPr/>
          </p:nvSpPr>
          <p:spPr>
            <a:xfrm>
              <a:off x="3510000" y="4756320"/>
              <a:ext cx="6415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6" name="Picture 81" descr=""/>
          <p:cNvPicPr/>
          <p:nvPr/>
        </p:nvPicPr>
        <p:blipFill>
          <a:blip r:embed="rId1"/>
          <a:stretch/>
        </p:blipFill>
        <p:spPr>
          <a:xfrm>
            <a:off x="4457880" y="1397160"/>
            <a:ext cx="3263760" cy="406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3T15:31:24Z</dcterms:created>
  <dc:creator>Ugo Porcu</dc:creator>
  <dc:description/>
  <dc:language>en-US</dc:language>
  <cp:lastModifiedBy>Eleonora Floris</cp:lastModifiedBy>
  <dcterms:modified xsi:type="dcterms:W3CDTF">2025-01-31T11:15:23Z</dcterms:modified>
  <cp:revision>143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6</vt:r8>
  </property>
</Properties>
</file>